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0.gif" ContentType="image/gif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409E-FA4D-459F-B697-8FC219AF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29FA-341C-4DA3-887D-9CF67732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35EB-E5D1-41C3-851D-F0C879A7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0289-D9E2-46CF-A9BE-621A4AEC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6DDD-808A-48F7-94E6-9FC7FF55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14E-1795-4A95-9B20-D53EEEE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FE0-90A1-46A7-8CAF-6E9F166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EC56-7100-44D2-8FC2-91E56A9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EBC0-D8D0-4339-823E-C238B763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E13-379E-4261-A225-3828F186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9E36-6D6E-49F5-9804-97D2254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C870-12F8-47C5-B364-E8686FE9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4D00-9E0B-46CD-9FA0-64D2711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517-FFED-47BE-B0A5-5A7D63B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0A9-A415-43EE-89A1-F614618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123-9E99-45E7-ADC8-C77F0162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EC27-9C28-43D0-AEB3-69B216BE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4ADA-52A2-4426-A735-DA72249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195F-DBED-4638-AEB6-602BFEC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384E-F34E-4428-AA29-9EC68CFE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3A5F-EEFC-47A5-B9AC-31ED694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03C4-899A-4619-9687-460C77E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E635-72EF-43A6-A0EA-3EA67C8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788F-3C67-491B-9EF6-AE4F2CE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06A2-2F24-46AA-84CD-C26645FAD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A34-FABA-45E7-B961-845A682F8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e5e5ff"/>
                </a:solidFill>
                <a:latin typeface="Comic Sans MS"/>
              </a:rPr>
              <a:t>Helium, ein einfaches Element mit besonderen Eigenschaften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Schallausbreitung in Quantenflüssigkei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5734080"/>
            <a:ext cx="89712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48360" y="5656320"/>
            <a:ext cx="2009880" cy="98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2360" y="57340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Martin Panhol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Institut für Theoretische Phys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04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Ortsunschärfe in zwei Dimension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751280" cy="361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72428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Viele neue Eigenschaften durch die Quantenmecha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5759640" cy="392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17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z.B. Suprafluidit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Die „Spin“nen die Physik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3384720" cy="2608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2920" y="2276640"/>
            <a:ext cx="741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Bosonen: Lichtquanten, 2 Fermionen können ein Boson bil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Fermionen: Elektronen, Protonen, Neutro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587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He: Bo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587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He: Ferm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413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lle Teilchen im Universum werden aufgrund ihres Spins unterteilt in Fermionen und Bos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48360" y="3222720"/>
          <a:ext cx="3024000" cy="26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3222720"/>
                    <a:ext cx="30240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Was bedeutet das für die Menschenmeng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ie Menge besteht aus Mädchen und Bursc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iese können Paare bil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4076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lles wird komplizi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99120" y="3068640"/>
            <a:ext cx="4844880" cy="3365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35280" y="3357720"/>
            <a:ext cx="576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Was habe ich gemach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76720" y="4292640"/>
            <a:ext cx="193824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5292720" y="2276640"/>
          <a:ext cx="35384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2276640"/>
                    <a:ext cx="35384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300720" y="5013360"/>
          <a:ext cx="2467080" cy="16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00720" y="5013360"/>
                    <a:ext cx="24670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68360" y="1773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Theoretisches Mod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227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Rech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Ergebn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0" y="2708280"/>
            <a:ext cx="3240000" cy="24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2771640" y="4292640"/>
          <a:ext cx="2881440" cy="22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4292640"/>
                    <a:ext cx="28814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4643280" y="2565360"/>
            <a:ext cx="424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Die Theorie gilt nicht nur für Helium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ktuell wird auch am Elektronengas geforsc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Weiters kann sie auch auf Nukleare Materie angewendet werden. (Große Atomkerne, Neutronenster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Sie gilt weiters auch für viele andere Systeme, jedoch kann man deren Eigenschaften auch mit einfacheren Modellen erklären. (Mit Kanonen auf Spatzen schieß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Was bringt das Ganz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ständnis dafür wie die Natur funktionie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Mögliche Anwendungen: Überall wo Fermiflüssigkeiten auftre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Unsere Theorie ist ein Werkzeug um schwierige Probleme zu lös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41292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e5e5ff"/>
                </a:solidFill>
                <a:latin typeface="Comic Sans MS"/>
              </a:rPr>
              <a:t>Vielen Dank für die Aufmerksamkeit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Vom ganz Kleinen zum Groß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067280" y="2637000"/>
            <a:ext cx="4608360" cy="3125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557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Eigenschaften von einzelnen Teil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557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Eigenschaften der Mate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356000" y="2637000"/>
          <a:ext cx="4105440" cy="31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637000"/>
                    <a:ext cx="410544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021120" y="11174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Vielteilchen-Theo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700280"/>
            <a:ext cx="865080" cy="504720"/>
          </a:xfrm>
          <a:prstGeom prst="leftRightArrow">
            <a:avLst>
              <a:gd name="adj1" fmla="val 50000"/>
              <a:gd name="adj2" fmla="val 341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78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z.B.: Was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Vom ganz Kleinen zum Groß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557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Eigenschaften von einzelnen Mens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62864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Eigenschaften einer Menschenm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21120" y="11174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Vielteilchen-Theo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1773360"/>
            <a:ext cx="865080" cy="504720"/>
          </a:xfrm>
          <a:prstGeom prst="leftRightArrow">
            <a:avLst>
              <a:gd name="adj1" fmla="val 50000"/>
              <a:gd name="adj2" fmla="val 341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435132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4273560" cy="320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42544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Was wollen wi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nregungen (z.B. Schallwellen) in Systemen berechnen, bei denen die Quantenmechanik eine Rolle spiel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Quantenmechanische Effekte treten bei sehr tiefen Temperaturen au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Helium: Einziges Element das beim Abkühlen nicht fest wi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Grund: Quantenmechan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Daher der Name Quantenflüssigke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Ideale Modellsubstanz für unsere Untersuchun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Schall ist nicht gleich Sch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Normaler Schal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Dichtewellen die sich mit einer bestimmten Geschwindigkeit (Schallgeschwindigkeit) fortpflanz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usbreitung durch Stöß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Nullter Schal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Ebenfalls Dichtewellen die sich mit Schallgeschwindigkeit fortpflanze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usbreitung durch Änderung der effektiven WW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tt nur bei tiefen Temperaturen auf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Nackte und Effektive Wechselwirk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6960" y="2349360"/>
            <a:ext cx="3602160" cy="417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30508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00000" y="27082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Nackte W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22160" y="162864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Effektive W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Kollektive Mode oder Nullter Schal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r Schallfortpflanzung liegt die effektive Wechselwirkung zu Grun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253960" cy="218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306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Dichteänd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314172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997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Änderung der effektiven W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213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2997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Fortpflanzung der Dichteänd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2092320" cy="2187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59280" y="4076640"/>
            <a:ext cx="2087280" cy="217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059280" y="4076640"/>
            <a:ext cx="2087280" cy="217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059280" y="4076640"/>
            <a:ext cx="2087280" cy="2174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3059280" y="4076640"/>
            <a:ext cx="2087280" cy="217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059280" y="4076640"/>
            <a:ext cx="208728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omic Sans MS"/>
              </a:rPr>
              <a:t>Analogie: La Ola Wel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57280"/>
            <a:ext cx="6769080" cy="461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Comic Sans MS"/>
              </a:rPr>
              <a:t>Unschärferelation und das Nicht-Fest-Werden von Heliu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x </a:t>
            </a:r>
            <a:r>
              <a:rPr b="0" lang="de-DE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v m &gt; h/2</a:t>
            </a:r>
            <a:r>
              <a:rPr b="0" lang="de-DE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708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Ich weiß wie schnell ich bin</a:t>
            </a: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dafür weiß ich nicht wo ich 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133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Ich weiß wo ich bin</a:t>
            </a: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dafür weiß ich nicht wie schnell ich 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7777080" cy="255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492360" y="2205000"/>
            <a:ext cx="648000" cy="2160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2781360"/>
            <a:ext cx="648000" cy="2160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7777080" cy="2552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124000" y="3284640"/>
            <a:ext cx="444492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32:32Z</dcterms:created>
  <dc:creator>Martin P</dc:creator>
  <dc:description/>
  <dc:language>en-US</dc:language>
  <cp:lastModifiedBy>Martin P</cp:lastModifiedBy>
  <dcterms:modified xsi:type="dcterms:W3CDTF">2008-03-27T09:00:07Z</dcterms:modified>
  <cp:revision>46</cp:revision>
  <dc:subject/>
  <dc:title>Folie 1</dc:title>
</cp:coreProperties>
</file>