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A7D-E113-4B66-9E66-F3292694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0E7-7590-49FA-86C9-1C09ECFE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2DF-A57A-4537-976B-A051493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0A6-C020-438A-82D3-0F0171EF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957-522F-4FFB-BEA3-EDA94939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695-4981-4156-92A4-0B7B61D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6DD-AF4F-4A81-BA67-2519731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DBB-7556-43F5-93C2-1B62A22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74C-B773-4C4B-91A4-85E394B8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9C6-B8D2-472D-9CB3-873B268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27F-311E-43D3-B600-B823075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00E-E334-404E-9B0F-57BF8D1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D71-F4C3-4204-BBC0-762376D3E3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enn Transistoren kalt wird…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1916280"/>
            <a:ext cx="5058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dellrechnungen zum Metall-Isolator-Übergang bei MOS-Transis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4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omas Hö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treuung: a.Univ.-Prof. Dr. Gerhard Brunth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itut für Halbleiter- und Festkörperphys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nfwertige Fremdatome: n-Do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OS-Transisto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9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enzfläche p-n stellt für die Elektronen eine Barriere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/n-Diode in Sperrrich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 Stromfluss zwischen Drain un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12720" y="981000"/>
            <a:ext cx="61167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OS-Transisto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tive Gatespan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onen werden zum Gate hin gezogen, Löcher aufge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e Sichtweise: Löcher werden abgest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ch mehr Elektr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i beweglich → Inversionssch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12720" y="981000"/>
            <a:ext cx="61167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OS-Transisto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72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versionsschicht: nur einige nm d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dimensionales Elektronen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rriere ist verschwunden → Stromfl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spann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↔ Elektronendich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↔ spezifischer Wi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12720" y="981000"/>
            <a:ext cx="61167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etall-Isolator-Überga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ang zwischen metallischem und isolierendem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770280" cy="424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56000" y="270828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den Kurven konstante Elektronen- dichte in der Inversionssch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61400" y="1700280"/>
            <a:ext cx="45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94: Kravchenko, Pudalov und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ung des spezifischen Widerst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versionssch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429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 Elektronendichte →  isolierend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fallender Temperatur steigt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sche Wi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5084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ößere Elektronendichte →  metallisch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fallender Temperatur sinkt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sche Wi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24000" y="3645000"/>
            <a:ext cx="223200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050560" y="5084640"/>
            <a:ext cx="230508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02136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vchenko, Pudalov et al., PRB 50, 8039 (1994); PRB 51, 7038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enzfläche zwischen Metall und Oxid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etall-Isolator-Überga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s ist das Besondere da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1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oretische Vorher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zweidimensionales Elektronen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llte sich immer isolierend v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odel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6680" y="1268280"/>
            <a:ext cx="74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e Modelle, die den Übergang erklären kö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chselwirkung zwischen den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uung der Elektronen an Ladungen im Ox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p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p = Stelle im Oxid, die ein Elektron einfangen k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1125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ordnung in der Grenzschi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ergie einzelner Elektronen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ch, dass sie die Bindung 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ständen ver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542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1125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ordnung in der Grenzschi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ergie einzelner Elektronen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ch, dass sie die Bindung 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ständen ver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kompensierte positive Lad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eibt zurück → Streu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716280"/>
            <a:ext cx="52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 das tatsächlich passiert, hängt u.a. ab v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onendichte 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versionssch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and zwischen Bindung (=Trap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Inversionssch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542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pezifischen Wider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62864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integrieren der Beiträge zum spezifischen Widerstand über alle möglichen Abstände zwischen Trap und Inversionssch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l mit analytischen Methoden nicht berechenb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MOS-Transisto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tal-Oxide-Semicondu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733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lliardenfache Verwendung in der Mikroelektronik als Schal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nnung an der Gateelektrode steuert Stromfluss zwischen Source und D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2720" y="2637000"/>
            <a:ext cx="61167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pezifischen Wider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62864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integrieren der Beiträge zum spezifischen Widerstand über alle möglichen Abstände zwischen Trap und Inversionssch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l mit analytischen Methoden nicht berechenb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99736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 vorhanden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herung für den Integr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3384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3384360" cy="223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pezifischen Wider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62864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integrieren der Beiträge zum spezifischen Widerstand über alle möglichen Abstände zwischen Trap und Inversionssch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l mit analytischen Methoden nicht berechenb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99736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 vorhanden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herung für den Integr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3384360" cy="223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pezifischen Wider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62864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integrieren der Beiträge zum spezifischen Widerstand über alle möglichen Abstände zwischen Trap und Inversionssch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l mit analytischen Methoden nicht berechenb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299736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 vorhanden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herung für den Integr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997360"/>
            <a:ext cx="331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ser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erisch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384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Trap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3384360" cy="2239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pezifischen Wider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162864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integrieren der Beiträge zum spezifischen Widerstand über alle möglichen Abstände zwischen Trap und Inversionssch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l mit analytischen Methoden nicht berechenb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384720" cy="2239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16000" y="299736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 vorhanden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herung für den Integr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2997360"/>
            <a:ext cx="331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sere Arb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erisch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560" y="-36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Erstes Ergebni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5040360" cy="3789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8690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ven: konstante Elektronendichte in der Inversionssch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hnliches Ergebnis wie bei bereits vorhandener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ang, aber kein isolierendes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Berücksichtigung der Trapladunge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52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: Gatespannung wird konstant ge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: Elektronendichte k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MOS-Transistor als Kondens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2997360"/>
            <a:ext cx="33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=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annung V k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dung Q k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3672000" cy="2976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onendichte – Dichte der Trapladungen k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Berücksichtigung der Trapladunge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ven: konstante Gatespa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49480" y="1004760"/>
            <a:ext cx="5043600" cy="379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66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Metall-Isolator-Überga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3333cc"/>
                </a:solidFill>
                <a:latin typeface="Arial"/>
              </a:rPr>
              <a:t>Vielen Dank für die</a:t>
            </a:r>
            <a:br>
              <a:rPr sz="7200"/>
            </a:br>
            <a:r>
              <a:rPr b="1" lang="de-DE" sz="7200" spc="-1" strike="noStrike">
                <a:solidFill>
                  <a:srgbClr val="3333cc"/>
                </a:solidFill>
                <a:latin typeface="Arial"/>
              </a:rPr>
              <a:t>Aufmerksamkeit!</a:t>
            </a:r>
            <a:endParaRPr b="0" lang="en-US" sz="7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leitung: Elektronen und Lö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leitung: Elektronen und Lö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leitung: Elektronen und Lö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leitung: Elektronen und Lö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eiwertige Fremdatome: p-Do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eiwertige Fremdatome: p-Do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Wie leitet ein Halbleiter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nfwertige Fremdatome: n-Do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14440" y="1773360"/>
            <a:ext cx="451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51:41Z</dcterms:created>
  <dc:creator>KM</dc:creator>
  <dc:description/>
  <dc:language>en-US</dc:language>
  <cp:lastModifiedBy>KM</cp:lastModifiedBy>
  <dcterms:modified xsi:type="dcterms:W3CDTF">2007-04-12T08:46:29Z</dcterms:modified>
  <cp:revision>98</cp:revision>
  <dc:subject/>
  <dc:title>Folie 1</dc:title>
</cp:coreProperties>
</file>