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34.jpeg" ContentType="image/jpeg"/>
  <Override PartName="/ppt/media/image20.png" ContentType="image/png"/>
  <Override PartName="/ppt/media/image28.jpeg" ContentType="image/jpeg"/>
  <Override PartName="/ppt/media/image36.png" ContentType="image/png"/>
  <Override PartName="/ppt/media/image43.jpeg" ContentType="image/jpeg"/>
  <Override PartName="/ppt/media/image45.jpeg" ContentType="image/jpeg"/>
  <Override PartName="/ppt/media/image33.png" ContentType="image/png"/>
  <Override PartName="/ppt/media/image52.jpeg" ContentType="image/jpeg"/>
  <Override PartName="/ppt/media/image46.jpeg" ContentType="image/jpeg"/>
  <Override PartName="/ppt/media/image49.jpeg" ContentType="image/jpeg"/>
  <Override PartName="/ppt/media/image51.png" ContentType="image/png"/>
  <Override PartName="/ppt/media/image48.jpeg" ContentType="image/jpeg"/>
  <Override PartName="/ppt/media/image53.jpeg" ContentType="image/jpeg"/>
  <Override PartName="/ppt/media/image55.jpeg" ContentType="image/jpeg"/>
  <Override PartName="/ppt/media/image56.png" ContentType="image/png"/>
  <Override PartName="/ppt/media/image31.jpeg" ContentType="image/jpeg"/>
  <Override PartName="/ppt/media/image44.png" ContentType="image/png"/>
  <Override PartName="/ppt/media/image13.jpeg" ContentType="image/jpeg"/>
  <Override PartName="/ppt/media/image39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6484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3E7D-1AB4-4F7D-AF86-449F3BC3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326-014A-4DF9-9BDB-712FDAB4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B1B-6866-4AAE-B93D-C90BBDBA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D9F-B764-41C7-A95D-B89C6C6F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4564-631A-442B-AFC9-37DC58CD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568D-1A6B-471E-ADAB-6A82A40F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959D-F46A-404F-BFF5-34CA3DE3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C212-169F-4A99-946F-9C58E028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DE51-EF00-4E8D-B4EA-4BD48FB2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4920" y="115560"/>
            <a:ext cx="79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13DE-4A87-4F02-A85B-FF4014EF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53C0-77B9-48DB-B7B0-7C88DD1E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D91-BCAB-45B1-B28B-6C16DB00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6233-A855-4241-B205-95C4F599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678F-8A6B-4183-B2EB-2ECA0BB5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038C-29CF-45FF-8AD9-11D60AD4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6B55-4725-4419-B1F7-6B4AC013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B978-F366-4177-BC53-C2B4FDE5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77C-A0F0-4F3C-AD93-BE300AFE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5BE-5265-44D0-8B18-9886DFD8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F83-C555-4BE8-9D92-9D6EB734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4920" y="115560"/>
            <a:ext cx="79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4A3-B6AE-4892-8E9B-7419D1CC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6A7-F74C-49C0-AB10-5872A7DB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29C-5931-49EB-9EF6-DEA25FA2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BF65-DAEA-4715-A5D0-38D01458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871B-2DD8-4F31-91C0-C76873575DB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3f43d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0" y="980640"/>
            <a:ext cx="9144000" cy="71640"/>
          </a:xfrm>
          <a:prstGeom prst="line">
            <a:avLst/>
          </a:prstGeom>
          <a:ln w="19080">
            <a:solidFill>
              <a:srgbClr val="3f43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50000">
              <a:srgbClr val="e6e9fc"/>
            </a:gs>
            <a:gs pos="100000">
              <a:srgbClr val="8996f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3B19-9619-4A4E-ACD0-7DC33BCC3B9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3573360"/>
            <a:ext cx="7197480" cy="144720"/>
          </a:xfrm>
          <a:prstGeom prst="rect">
            <a:avLst/>
          </a:prstGeom>
          <a:gradFill rotWithShape="0">
            <a:gsLst>
              <a:gs pos="0">
                <a:srgbClr val="3f43df">
                  <a:alpha val="92156"/>
                </a:srgbClr>
              </a:gs>
              <a:gs pos="100000">
                <a:srgbClr val="d8d9f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5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50000">
              <a:srgbClr val="e6e9fc"/>
            </a:gs>
            <a:gs pos="100000">
              <a:srgbClr val="8996f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7337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800" spc="-1" strike="noStrike">
                <a:solidFill>
                  <a:srgbClr val="000000"/>
                </a:solidFill>
                <a:latin typeface="Comic Sans MS"/>
                <a:ea typeface="바탕"/>
              </a:rPr>
              <a:t>Sehen </a:t>
            </a:r>
            <a:r>
              <a:rPr b="1" i="1" lang="de-AT" sz="5000" spc="-1" strike="noStrike">
                <a:solidFill>
                  <a:srgbClr val="000000"/>
                </a:solidFill>
                <a:latin typeface="Comic Sans MS"/>
                <a:ea typeface="바탕"/>
              </a:rPr>
              <a:t>und</a:t>
            </a:r>
            <a:r>
              <a:rPr b="0" lang="de-AT" sz="4800" spc="-1" strike="noStrike">
                <a:solidFill>
                  <a:srgbClr val="000000"/>
                </a:solidFill>
                <a:latin typeface="Comic Sans MS"/>
                <a:ea typeface="바탕"/>
              </a:rPr>
              <a:t> Tasten:</a:t>
            </a:r>
            <a:br>
              <a:rPr sz="4800"/>
            </a:br>
            <a:r>
              <a:rPr b="0" lang="de-AT" sz="4400" spc="-1" strike="noStrike">
                <a:solidFill>
                  <a:srgbClr val="000000"/>
                </a:solidFill>
                <a:latin typeface="Comic Sans MS"/>
                <a:ea typeface="바탕"/>
              </a:rPr>
              <a:t>Mehr Sinne erfahren meh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4005360"/>
            <a:ext cx="73440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000000"/>
                </a:solidFill>
                <a:latin typeface="Comic Sans MS"/>
              </a:rPr>
              <a:t>Josef Madl</a:t>
            </a:r>
            <a:r>
              <a:rPr b="0" lang="de-AT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mic Sans MS"/>
              </a:rPr>
              <a:t>Institut für Biophysi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omic Sans MS"/>
              </a:rPr>
              <a:t>Wilhelm Macke Award 2007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268640" cy="1154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115920"/>
            <a:ext cx="136188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Die Größenskal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1197000"/>
            <a:ext cx="45720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Die Größenskala: Cent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45440" cy="5194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348000" y="6308640"/>
            <a:ext cx="144360" cy="14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Die Größenskala: Mill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5616720" cy="5119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43640" y="5877000"/>
            <a:ext cx="360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Die Größenskala: Mikr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4883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Die Größenskala: Nan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5543640" cy="3303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2385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Genau hinsehen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2374920" cy="1508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025880" cy="4032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1341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Zellen:  ~10-50 Mikrometer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971640" y="2997360"/>
            <a:ext cx="245736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632720" cy="5092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Where is everybod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71640" y="3932280"/>
            <a:ext cx="5257440" cy="1584000"/>
            <a:chOff x="971640" y="3932280"/>
            <a:chExt cx="5257440" cy="1584000"/>
          </a:xfrm>
        </p:grpSpPr>
        <p:grpSp>
          <p:nvGrpSpPr>
            <p:cNvPr id="154" name=""/>
            <p:cNvGrpSpPr/>
            <p:nvPr/>
          </p:nvGrpSpPr>
          <p:grpSpPr>
            <a:xfrm>
              <a:off x="4788000" y="4219560"/>
              <a:ext cx="288360" cy="647280"/>
              <a:chOff x="4788000" y="4219560"/>
              <a:chExt cx="288360" cy="647280"/>
            </a:xfrm>
          </p:grpSpPr>
          <p:sp>
            <p:nvSpPr>
              <p:cNvPr id="155" name=""/>
              <p:cNvSpPr/>
              <p:nvPr/>
            </p:nvSpPr>
            <p:spPr>
              <a:xfrm>
                <a:off x="4849560" y="452592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88000" y="4219560"/>
                <a:ext cx="288360" cy="32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356000" y="4292640"/>
              <a:ext cx="288720" cy="647280"/>
              <a:chOff x="4356000" y="4292640"/>
              <a:chExt cx="288720" cy="647280"/>
            </a:xfrm>
          </p:grpSpPr>
          <p:sp>
            <p:nvSpPr>
              <p:cNvPr id="158" name=""/>
              <p:cNvSpPr/>
              <p:nvPr/>
            </p:nvSpPr>
            <p:spPr>
              <a:xfrm>
                <a:off x="4417560" y="459900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56000" y="4292640"/>
                <a:ext cx="288720" cy="32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291280" y="4435560"/>
              <a:ext cx="288360" cy="647280"/>
              <a:chOff x="5291280" y="4435560"/>
              <a:chExt cx="288360" cy="647280"/>
            </a:xfrm>
          </p:grpSpPr>
          <p:sp>
            <p:nvSpPr>
              <p:cNvPr id="161" name=""/>
              <p:cNvSpPr/>
              <p:nvPr/>
            </p:nvSpPr>
            <p:spPr>
              <a:xfrm>
                <a:off x="5352840" y="474192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291280" y="4435560"/>
                <a:ext cx="288360" cy="32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572000" y="4290840"/>
              <a:ext cx="288720" cy="647640"/>
              <a:chOff x="4572000" y="4290840"/>
              <a:chExt cx="288720" cy="647640"/>
            </a:xfrm>
          </p:grpSpPr>
          <p:sp>
            <p:nvSpPr>
              <p:cNvPr id="164" name=""/>
              <p:cNvSpPr/>
              <p:nvPr/>
            </p:nvSpPr>
            <p:spPr>
              <a:xfrm>
                <a:off x="4633560" y="459756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72000" y="4290840"/>
                <a:ext cx="288720" cy="3240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435640" y="4508640"/>
              <a:ext cx="288360" cy="647280"/>
              <a:chOff x="5435640" y="4508640"/>
              <a:chExt cx="288360" cy="647280"/>
            </a:xfrm>
          </p:grpSpPr>
          <p:sp>
            <p:nvSpPr>
              <p:cNvPr id="167" name=""/>
              <p:cNvSpPr/>
              <p:nvPr/>
            </p:nvSpPr>
            <p:spPr>
              <a:xfrm>
                <a:off x="5497200" y="481500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35640" y="4508640"/>
                <a:ext cx="288360" cy="32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4716360" y="4363920"/>
              <a:ext cx="288720" cy="647280"/>
              <a:chOff x="4716360" y="4363920"/>
              <a:chExt cx="288720" cy="647280"/>
            </a:xfrm>
          </p:grpSpPr>
          <p:sp>
            <p:nvSpPr>
              <p:cNvPr id="170" name=""/>
              <p:cNvSpPr/>
              <p:nvPr/>
            </p:nvSpPr>
            <p:spPr>
              <a:xfrm>
                <a:off x="4777920" y="467028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16360" y="4363920"/>
                <a:ext cx="288720" cy="32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6012000" y="4076640"/>
              <a:ext cx="217080" cy="504720"/>
              <a:chOff x="6012000" y="4076640"/>
              <a:chExt cx="217080" cy="504720"/>
            </a:xfrm>
          </p:grpSpPr>
          <p:sp>
            <p:nvSpPr>
              <p:cNvPr id="173" name=""/>
              <p:cNvSpPr/>
              <p:nvPr/>
            </p:nvSpPr>
            <p:spPr>
              <a:xfrm>
                <a:off x="6058080" y="4315680"/>
                <a:ext cx="103680" cy="26568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012000" y="4076640"/>
                <a:ext cx="217080" cy="2523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498920" y="4435560"/>
              <a:ext cx="288720" cy="647280"/>
              <a:chOff x="4498920" y="4435560"/>
              <a:chExt cx="288720" cy="647280"/>
            </a:xfrm>
          </p:grpSpPr>
          <p:sp>
            <p:nvSpPr>
              <p:cNvPr id="176" name=""/>
              <p:cNvSpPr/>
              <p:nvPr/>
            </p:nvSpPr>
            <p:spPr>
              <a:xfrm>
                <a:off x="4560480" y="474192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498920" y="4435560"/>
                <a:ext cx="288720" cy="32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292720" y="4581360"/>
              <a:ext cx="288720" cy="647640"/>
              <a:chOff x="5292720" y="4581360"/>
              <a:chExt cx="288720" cy="647640"/>
            </a:xfrm>
          </p:grpSpPr>
          <p:sp>
            <p:nvSpPr>
              <p:cNvPr id="179" name=""/>
              <p:cNvSpPr/>
              <p:nvPr/>
            </p:nvSpPr>
            <p:spPr>
              <a:xfrm>
                <a:off x="5354280" y="488808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292720" y="4581360"/>
                <a:ext cx="288720" cy="3240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284720" y="4508640"/>
              <a:ext cx="288360" cy="647280"/>
              <a:chOff x="4284720" y="4508640"/>
              <a:chExt cx="288360" cy="647280"/>
            </a:xfrm>
          </p:grpSpPr>
          <p:sp>
            <p:nvSpPr>
              <p:cNvPr id="182" name=""/>
              <p:cNvSpPr/>
              <p:nvPr/>
            </p:nvSpPr>
            <p:spPr>
              <a:xfrm>
                <a:off x="4346280" y="481500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84720" y="4508640"/>
                <a:ext cx="288360" cy="32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116000" y="4365720"/>
              <a:ext cx="288720" cy="647280"/>
              <a:chOff x="1116000" y="4365720"/>
              <a:chExt cx="288720" cy="647280"/>
            </a:xfrm>
          </p:grpSpPr>
          <p:sp>
            <p:nvSpPr>
              <p:cNvPr id="185" name=""/>
              <p:cNvSpPr/>
              <p:nvPr/>
            </p:nvSpPr>
            <p:spPr>
              <a:xfrm>
                <a:off x="1177560" y="467208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116000" y="4365720"/>
                <a:ext cx="288720" cy="32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1260360" y="4437000"/>
              <a:ext cx="288720" cy="647280"/>
              <a:chOff x="1260360" y="4437000"/>
              <a:chExt cx="288720" cy="647280"/>
            </a:xfrm>
          </p:grpSpPr>
          <p:sp>
            <p:nvSpPr>
              <p:cNvPr id="188" name=""/>
              <p:cNvSpPr/>
              <p:nvPr/>
            </p:nvSpPr>
            <p:spPr>
              <a:xfrm>
                <a:off x="1321920" y="474336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260360" y="4437000"/>
                <a:ext cx="288720" cy="32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971640" y="4437000"/>
              <a:ext cx="288360" cy="647280"/>
              <a:chOff x="971640" y="4437000"/>
              <a:chExt cx="288360" cy="647280"/>
            </a:xfrm>
          </p:grpSpPr>
          <p:sp>
            <p:nvSpPr>
              <p:cNvPr id="191" name=""/>
              <p:cNvSpPr/>
              <p:nvPr/>
            </p:nvSpPr>
            <p:spPr>
              <a:xfrm>
                <a:off x="1033200" y="474336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971640" y="4437000"/>
                <a:ext cx="288360" cy="32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187280" y="4581360"/>
              <a:ext cx="288720" cy="647640"/>
              <a:chOff x="1187280" y="4581360"/>
              <a:chExt cx="288720" cy="647640"/>
            </a:xfrm>
          </p:grpSpPr>
          <p:sp>
            <p:nvSpPr>
              <p:cNvPr id="194" name=""/>
              <p:cNvSpPr/>
              <p:nvPr/>
            </p:nvSpPr>
            <p:spPr>
              <a:xfrm>
                <a:off x="1248840" y="488808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187280" y="4581360"/>
                <a:ext cx="288720" cy="3240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971640" y="4726080"/>
              <a:ext cx="288360" cy="647280"/>
              <a:chOff x="971640" y="4726080"/>
              <a:chExt cx="288360" cy="647280"/>
            </a:xfrm>
          </p:grpSpPr>
          <p:sp>
            <p:nvSpPr>
              <p:cNvPr id="197" name=""/>
              <p:cNvSpPr/>
              <p:nvPr/>
            </p:nvSpPr>
            <p:spPr>
              <a:xfrm>
                <a:off x="1033200" y="503244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971640" y="4726080"/>
                <a:ext cx="288360" cy="32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1260360" y="4726080"/>
              <a:ext cx="288720" cy="647280"/>
              <a:chOff x="1260360" y="4726080"/>
              <a:chExt cx="288720" cy="647280"/>
            </a:xfrm>
          </p:grpSpPr>
          <p:sp>
            <p:nvSpPr>
              <p:cNvPr id="200" name=""/>
              <p:cNvSpPr/>
              <p:nvPr/>
            </p:nvSpPr>
            <p:spPr>
              <a:xfrm>
                <a:off x="1321920" y="503244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60360" y="4726080"/>
                <a:ext cx="288720" cy="32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116000" y="4869000"/>
              <a:ext cx="288720" cy="647280"/>
              <a:chOff x="1116000" y="4869000"/>
              <a:chExt cx="288720" cy="647280"/>
            </a:xfrm>
          </p:grpSpPr>
          <p:sp>
            <p:nvSpPr>
              <p:cNvPr id="203" name=""/>
              <p:cNvSpPr/>
              <p:nvPr/>
            </p:nvSpPr>
            <p:spPr>
              <a:xfrm>
                <a:off x="1177560" y="5175360"/>
                <a:ext cx="137880" cy="34092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116000" y="4869000"/>
                <a:ext cx="288720" cy="32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341440" y="3932280"/>
              <a:ext cx="146160" cy="433440"/>
              <a:chOff x="2341440" y="3932280"/>
              <a:chExt cx="146160" cy="433440"/>
            </a:xfrm>
          </p:grpSpPr>
          <p:sp>
            <p:nvSpPr>
              <p:cNvPr id="206" name=""/>
              <p:cNvSpPr/>
              <p:nvPr/>
            </p:nvSpPr>
            <p:spPr>
              <a:xfrm>
                <a:off x="2372400" y="4137480"/>
                <a:ext cx="69840" cy="22824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341440" y="3932280"/>
                <a:ext cx="146160" cy="216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413080" y="4003560"/>
              <a:ext cx="145800" cy="433440"/>
              <a:chOff x="2413080" y="4003560"/>
              <a:chExt cx="145800" cy="433440"/>
            </a:xfrm>
          </p:grpSpPr>
          <p:sp>
            <p:nvSpPr>
              <p:cNvPr id="209" name=""/>
              <p:cNvSpPr/>
              <p:nvPr/>
            </p:nvSpPr>
            <p:spPr>
              <a:xfrm>
                <a:off x="2444040" y="4208760"/>
                <a:ext cx="69480" cy="22824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413080" y="4003560"/>
                <a:ext cx="145800" cy="216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341440" y="4003560"/>
              <a:ext cx="146160" cy="433440"/>
              <a:chOff x="2341440" y="4003560"/>
              <a:chExt cx="146160" cy="433440"/>
            </a:xfrm>
          </p:grpSpPr>
          <p:sp>
            <p:nvSpPr>
              <p:cNvPr id="212" name=""/>
              <p:cNvSpPr/>
              <p:nvPr/>
            </p:nvSpPr>
            <p:spPr>
              <a:xfrm>
                <a:off x="2372400" y="4208760"/>
                <a:ext cx="69840" cy="22824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41440" y="4003560"/>
                <a:ext cx="146160" cy="216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2916360" y="4076640"/>
              <a:ext cx="215640" cy="433440"/>
              <a:chOff x="2916360" y="4076640"/>
              <a:chExt cx="215640" cy="433440"/>
            </a:xfrm>
          </p:grpSpPr>
          <p:sp>
            <p:nvSpPr>
              <p:cNvPr id="215" name=""/>
              <p:cNvSpPr/>
              <p:nvPr/>
            </p:nvSpPr>
            <p:spPr>
              <a:xfrm>
                <a:off x="2962080" y="4281840"/>
                <a:ext cx="102960" cy="228240"/>
              </a:xfrm>
              <a:custGeom>
                <a:avLst/>
                <a:gdLst/>
                <a:ahLst/>
                <a:rect l="l" t="t" r="r" b="b"/>
                <a:pathLst>
                  <a:path w="302" h="1134">
                    <a:moveTo>
                      <a:pt x="181" y="0"/>
                    </a:moveTo>
                    <a:cubicBezTo>
                      <a:pt x="241" y="162"/>
                      <a:pt x="302" y="325"/>
                      <a:pt x="272" y="453"/>
                    </a:cubicBezTo>
                    <a:cubicBezTo>
                      <a:pt x="242" y="581"/>
                      <a:pt x="0" y="658"/>
                      <a:pt x="0" y="771"/>
                    </a:cubicBezTo>
                    <a:cubicBezTo>
                      <a:pt x="0" y="884"/>
                      <a:pt x="227" y="1074"/>
                      <a:pt x="272" y="1134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16360" y="4076640"/>
                <a:ext cx="215640" cy="2167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 rot="15457200">
            <a:off x="6120360" y="1593000"/>
            <a:ext cx="1908000" cy="226872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8068400">
            <a:off x="4680360" y="2311920"/>
            <a:ext cx="1908360" cy="226836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lekulare „Luftballons“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446040" y="119700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Spezielle Farbstoff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Fluoroph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458320" y="2029680"/>
            <a:ext cx="1815480" cy="1792440"/>
            <a:chOff x="5458320" y="2029680"/>
            <a:chExt cx="1815480" cy="1792440"/>
          </a:xfrm>
        </p:grpSpPr>
        <p:sp>
          <p:nvSpPr>
            <p:cNvPr id="222" name=""/>
            <p:cNvSpPr/>
            <p:nvPr/>
          </p:nvSpPr>
          <p:spPr>
            <a:xfrm rot="19308000">
              <a:off x="6046560" y="2489760"/>
              <a:ext cx="974160" cy="115452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975600">
              <a:off x="5508720" y="2133360"/>
              <a:ext cx="810000" cy="475200"/>
            </a:xfrm>
            <a:custGeom>
              <a:avLst/>
              <a:gdLst/>
              <a:ahLst/>
              <a:rect l="l" t="t" r="r" b="b"/>
              <a:pathLst>
                <a:path w="340" h="120">
                  <a:moveTo>
                    <a:pt x="0" y="15"/>
                  </a:moveTo>
                  <a:cubicBezTo>
                    <a:pt x="102" y="7"/>
                    <a:pt x="204" y="0"/>
                    <a:pt x="227" y="15"/>
                  </a:cubicBezTo>
                  <a:cubicBezTo>
                    <a:pt x="250" y="30"/>
                    <a:pt x="121" y="90"/>
                    <a:pt x="136" y="105"/>
                  </a:cubicBezTo>
                  <a:cubicBezTo>
                    <a:pt x="151" y="120"/>
                    <a:pt x="294" y="105"/>
                    <a:pt x="317" y="105"/>
                  </a:cubicBezTo>
                  <a:cubicBezTo>
                    <a:pt x="340" y="105"/>
                    <a:pt x="306" y="105"/>
                    <a:pt x="272" y="105"/>
                  </a:cubicBezTo>
                </a:path>
              </a:pathLst>
            </a:custGeom>
            <a:noFill/>
            <a:ln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11280" y="2852640"/>
            <a:ext cx="4248000" cy="29322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3038760" y="4818960"/>
            <a:ext cx="844200" cy="787680"/>
            <a:chOff x="3038760" y="4818960"/>
            <a:chExt cx="844200" cy="787680"/>
          </a:xfrm>
        </p:grpSpPr>
        <p:sp>
          <p:nvSpPr>
            <p:cNvPr id="226" name=""/>
            <p:cNvSpPr/>
            <p:nvPr/>
          </p:nvSpPr>
          <p:spPr>
            <a:xfrm rot="19308000">
              <a:off x="3315240" y="5021280"/>
              <a:ext cx="464040" cy="49464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975600">
              <a:off x="3059280" y="4868640"/>
              <a:ext cx="385920" cy="203760"/>
            </a:xfrm>
            <a:custGeom>
              <a:avLst/>
              <a:gdLst/>
              <a:ahLst/>
              <a:rect l="l" t="t" r="r" b="b"/>
              <a:pathLst>
                <a:path w="340" h="120">
                  <a:moveTo>
                    <a:pt x="0" y="15"/>
                  </a:moveTo>
                  <a:cubicBezTo>
                    <a:pt x="102" y="7"/>
                    <a:pt x="204" y="0"/>
                    <a:pt x="227" y="15"/>
                  </a:cubicBezTo>
                  <a:cubicBezTo>
                    <a:pt x="250" y="30"/>
                    <a:pt x="121" y="90"/>
                    <a:pt x="136" y="105"/>
                  </a:cubicBezTo>
                  <a:cubicBezTo>
                    <a:pt x="151" y="120"/>
                    <a:pt x="294" y="105"/>
                    <a:pt x="317" y="105"/>
                  </a:cubicBezTo>
                  <a:cubicBezTo>
                    <a:pt x="340" y="105"/>
                    <a:pt x="306" y="105"/>
                    <a:pt x="272" y="105"/>
                  </a:cubicBezTo>
                </a:path>
              </a:pathLst>
            </a:custGeom>
            <a:noFill/>
            <a:ln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luoreszenzmikroskop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716360" y="1197000"/>
            <a:ext cx="4038840" cy="3727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3392640" cy="3554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5280" y="1197000"/>
            <a:ext cx="424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Mikrosk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CCD-K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000" y="5373720"/>
            <a:ext cx="45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Zelle mit grün-markiertem  HDL-Rez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508720" y="1557360"/>
            <a:ext cx="29224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4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st-Sin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1413000"/>
            <a:ext cx="25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Dr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Rauh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4608720" cy="30574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995640" y="465300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Braille-Schrif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Information erta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Oster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4138560" cy="413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4365720"/>
            <a:ext cx="3240000" cy="2076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539640" y="1341360"/>
            <a:ext cx="3456000" cy="2357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3348000" y="3357720"/>
            <a:ext cx="21938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1509480" cy="1509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2232000" cy="15112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3635280" y="3368520"/>
            <a:ext cx="5257800" cy="31896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ekulares „Tasten“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4643280" y="1125360"/>
            <a:ext cx="40323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omic Sans MS"/>
              </a:rPr>
              <a:t>AFM: 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atomic force micr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extrem feine Spitze als Tast-S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(wenige Nanome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611280" y="2997360"/>
            <a:ext cx="2692440" cy="35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lekulares „Tasten“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1042920" y="141300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hochaufgelöste 3D-Bilder der Probenstru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8028000" cy="38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Zwei Techniken, zwei Stärk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1692360" y="1700280"/>
            <a:ext cx="5688000" cy="33850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Comic Sans MS"/>
              </a:rPr>
              <a:t>Fluoreszen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hoher Kont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chn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m Inneren möglich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Comic Sans MS"/>
              </a:rPr>
              <a:t>AF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3D-Struktu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üfteln, Grübeln, Tüfteln,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328920" cy="5113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510000" cy="5040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619280" y="1484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3635280" y="3213000"/>
            <a:ext cx="4032360" cy="3260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2411280" y="1197000"/>
            <a:ext cx="4651560" cy="53290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rot="1512000">
            <a:off x="5193360" y="1773360"/>
            <a:ext cx="3443760" cy="106884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Das kombinier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Mikrosk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M und Lichtmikroskop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527280" cy="35211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527720" y="1628640"/>
            <a:ext cx="44370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0" dur="1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FM und Fluoreszenzmikroskopi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592440" cy="3600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375080" y="1557360"/>
            <a:ext cx="4525920" cy="35780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11280" y="55166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mic Sans MS"/>
              </a:rPr>
              <a:t>Zelle mit grün-markiertem HDL-Rez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sten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Greifen??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580000" y="1197000"/>
            <a:ext cx="3183120" cy="4392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39640" y="2960640"/>
            <a:ext cx="4896000" cy="3672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187280" y="378936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378936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50760" y="352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0920" y="1413000"/>
            <a:ext cx="4272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Rezeptor-Fischen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Detaillierte Untersuch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der Bi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lekulares „Fischen“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3357720"/>
            <a:ext cx="96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378936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2920" y="378936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50760" y="352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964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764320" y="1125360"/>
            <a:ext cx="3090600" cy="3240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39640" y="141300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 u="sng">
                <a:solidFill>
                  <a:srgbClr val="000000"/>
                </a:solidFill>
                <a:uFillTx/>
                <a:latin typeface="Comic Sans MS"/>
              </a:rPr>
              <a:t>Die Idee: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 Bindungskraftstud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direkt auf den Rezept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530064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Fluoreszenz 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Leit-system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04000" y="4508640"/>
            <a:ext cx="576360" cy="649080"/>
          </a:xfrm>
          <a:prstGeom prst="upArrow">
            <a:avLst>
              <a:gd name="adj1" fmla="val 50000"/>
              <a:gd name="adj2" fmla="val 28154"/>
            </a:avLst>
          </a:prstGeom>
          <a:solidFill>
            <a:srgbClr val="003366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39640" y="2946240"/>
            <a:ext cx="489600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ine Spitzen-Leuch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395280" y="1846440"/>
            <a:ext cx="36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Silizium-Nitrid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Charakteristis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Far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68360" y="3645000"/>
            <a:ext cx="1944720" cy="1855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859280" y="1989000"/>
            <a:ext cx="354636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643280" y="27082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3959280" cy="3959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39640" y="112536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HDL – Rezeptor auswäh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FM-Spitze direkt darauf se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Rezeptorsuc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Ostern?  Eier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400536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5280" y="1268280"/>
            <a:ext cx="453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Eier: hoher Cholesterin-ante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erhöhen Cholesterin-Spie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59280" y="2392200"/>
            <a:ext cx="1404360" cy="1374120"/>
            <a:chOff x="1259280" y="2392200"/>
            <a:chExt cx="1404360" cy="1374120"/>
          </a:xfrm>
        </p:grpSpPr>
        <p:sp>
          <p:nvSpPr>
            <p:cNvPr id="98" name=""/>
            <p:cNvSpPr/>
            <p:nvPr/>
          </p:nvSpPr>
          <p:spPr>
            <a:xfrm flipV="1" rot="8175000">
              <a:off x="1043280" y="3034080"/>
              <a:ext cx="1836720" cy="112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 rot="2775000">
              <a:off x="1101960" y="2971800"/>
              <a:ext cx="1657440" cy="123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643280" y="27082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4645080" y="270828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3954600" cy="39546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Die „Angel“ positionie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1125360"/>
            <a:ext cx="84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HDL – Rezeptor auswäh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FM-Spitze direkt darauf set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Bindung untersu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19900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9900"/>
                            </p:stCondLst>
                            <p:childTnLst>
                              <p:par>
                                <p:cTn id="3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0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4030560" cy="2970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788000" y="3429000"/>
            <a:ext cx="4030560" cy="29811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gebnis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378936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42920" y="378936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50760" y="352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1628640"/>
            <a:ext cx="3816360" cy="4665600"/>
          </a:xfrm>
          <a:prstGeom prst="rect">
            <a:avLst/>
          </a:prstGeom>
          <a:blipFill rotWithShape="0">
            <a:blip r:embed="rId3">
              <a:alphaModFix amt="8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Standard-Messung </a:t>
            </a:r>
            <a:r>
              <a:rPr b="1" lang="de-DE" sz="2400" spc="-1" strike="noStrike">
                <a:solidFill>
                  <a:srgbClr val="000000"/>
                </a:solidFill>
                <a:latin typeface="Comic Sans MS"/>
              </a:rPr>
              <a:t>ohne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Fluoreszenz-Leit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~4% Bi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Mit Leitsy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uf Rezeptorhau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Comic Sans MS"/>
              </a:rPr>
              <a:t>13.6%</a:t>
            </a: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 Bind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Rezeptorfreie St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Comic Sans MS"/>
              </a:rPr>
              <a:t>2.5%</a:t>
            </a: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 Bi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516720" y="1052640"/>
            <a:ext cx="2154240" cy="20872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716360" y="1197000"/>
            <a:ext cx="4103640" cy="2318760"/>
          </a:xfrm>
          <a:prstGeom prst="rect">
            <a:avLst/>
          </a:prstGeom>
          <a:gradFill rotWithShape="0">
            <a:gsLst>
              <a:gs pos="0">
                <a:srgbClr val="ff9900">
                  <a:alpha val="33333"/>
                </a:srgbClr>
              </a:gs>
              <a:gs pos="100000">
                <a:srgbClr val="99cc00">
                  <a:alpha val="8235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lus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Das kombinierte Mikroskop funktioniert; weitere Messungen sind im Gan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agen??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708360" y="1935000"/>
            <a:ext cx="5327640" cy="4724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95280" y="5373720"/>
            <a:ext cx="3095640" cy="1251360"/>
          </a:xfrm>
          <a:prstGeom prst="rect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400" spc="-1" strike="noStrike" u="sng">
                <a:solidFill>
                  <a:srgbClr val="000000"/>
                </a:solidFill>
                <a:uFillTx/>
                <a:latin typeface="Comic Sans MS"/>
              </a:rPr>
              <a:t>In der Pause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omic Sans MS"/>
              </a:rPr>
              <a:t>P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20836200">
            <a:off x="250920" y="1196640"/>
            <a:ext cx="7483320" cy="1495800"/>
          </a:xfrm>
          <a:prstGeom prst="rect">
            <a:avLst/>
          </a:prstGeom>
          <a:blipFill rotWithShape="0">
            <a:blip r:embed="rId2">
              <a:alphaModFix amt="7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3f43df"/>
                </a:solidFill>
                <a:latin typeface="Lithograph"/>
              </a:rPr>
              <a:t>Vielen Dank für die Aufmerksamkeit!!!!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Cholesteri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4248360" cy="2788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91280" y="3575160"/>
            <a:ext cx="3379680" cy="2369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1197000"/>
            <a:ext cx="424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Bildung von Hormonen und Vitamin 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wichtiger Bestandteil der Zellmemb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95640" y="4365720"/>
            <a:ext cx="21600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106880" y="3575160"/>
            <a:ext cx="1184400" cy="790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06880" y="4583160"/>
            <a:ext cx="118440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1280" y="3575160"/>
            <a:ext cx="3384360" cy="237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508720" y="1197000"/>
            <a:ext cx="28890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Cholesterinspieg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238200" cy="5085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51640" y="1268280"/>
            <a:ext cx="3238200" cy="1808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1341360"/>
            <a:ext cx="5616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Erhöhter Wert:  &gt;200mg/dl im B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mic Sans MS"/>
              </a:rPr>
              <a:t>(Gesamtes Cholester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AT" sz="3200" spc="-1" strike="noStrike">
                <a:solidFill>
                  <a:srgbClr val="000000"/>
                </a:solidFill>
                <a:latin typeface="Comic Sans MS"/>
              </a:rPr>
              <a:t>Arterioskle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Arterienverkalkung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Erhöhtes Risiko von Herzinfarkten, Schlaganfälle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Herz-Kreislauf-Erkrankungen: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AT" sz="2000" spc="-1" strike="noStrike">
                <a:solidFill>
                  <a:srgbClr val="000000"/>
                </a:solidFill>
                <a:latin typeface="Comic Sans MS"/>
              </a:rPr>
              <a:t>Todesursache #1</a:t>
            </a: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Comic Sans MS"/>
              </a:rPr>
              <a:t>(westl. Industrielä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3238560" cy="1808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Cholesterin–Transpor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3238560" cy="295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16000" y="4653000"/>
            <a:ext cx="3240000" cy="1795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68360" y="1268280"/>
            <a:ext cx="4895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 u="sng">
                <a:solidFill>
                  <a:srgbClr val="000000"/>
                </a:solidFill>
                <a:uFillTx/>
                <a:latin typeface="Comic Sans MS"/>
              </a:rPr>
              <a:t>LDL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mic Sans MS"/>
              </a:rPr>
              <a:t>(low density lipoprotein)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de-AT" sz="2200" spc="-1" strike="noStrike">
                <a:solidFill>
                  <a:srgbClr val="000000"/>
                </a:solidFill>
                <a:latin typeface="Comic Sans MS"/>
              </a:rPr>
              <a:t>schlechtes“  Cholester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Comic Sans MS"/>
              </a:rPr>
              <a:t>Begünstigt</a:t>
            </a: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mic Sans MS"/>
              </a:rPr>
              <a:t>Auftreten von</a:t>
            </a: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mic Sans MS"/>
              </a:rPr>
              <a:t>Arterioskle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 u="sng">
                <a:solidFill>
                  <a:srgbClr val="000000"/>
                </a:solidFill>
                <a:uFillTx/>
                <a:latin typeface="Comic Sans MS"/>
              </a:rPr>
              <a:t>HDL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Comic Sans MS"/>
              </a:rPr>
              <a:t>(high density lipoprotein)</a:t>
            </a:r>
            <a:r>
              <a:rPr b="0" lang="de-AT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de-AT" sz="2200" spc="-1" strike="noStrike">
                <a:solidFill>
                  <a:srgbClr val="000000"/>
                </a:solidFill>
                <a:latin typeface="Comic Sans MS"/>
              </a:rPr>
              <a:t>gutes“  Cholester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A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AT" sz="2400" spc="-1" strike="noStrike">
                <a:solidFill>
                  <a:srgbClr val="000000"/>
                </a:solidFill>
                <a:latin typeface="Comic Sans MS"/>
              </a:rPr>
              <a:t>entfernt überschüssiges Cholester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508720" y="4005360"/>
            <a:ext cx="32385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Good vs. Bad“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8483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HDL bei der Arbei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708360" y="1125360"/>
            <a:ext cx="5184720" cy="2908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600360" cy="24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4365720"/>
            <a:ext cx="4537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 u="sng">
                <a:solidFill>
                  <a:srgbClr val="000000"/>
                </a:solidFill>
                <a:uFillTx/>
                <a:latin typeface="Comic Sans MS"/>
              </a:rPr>
              <a:t>Cholesterin-Austausch</a:t>
            </a:r>
            <a:r>
              <a:rPr b="1" lang="de-AT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omic Sans MS"/>
              </a:rPr>
              <a:t>HDL</a:t>
            </a:r>
            <a:r>
              <a:rPr b="0" lang="de-AT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de-AT" sz="3000" spc="-1" strike="noStrike">
                <a:solidFill>
                  <a:srgbClr val="000000"/>
                </a:solidFill>
                <a:latin typeface="Comic Sans MS"/>
              </a:rPr>
              <a:t> HDL-Rezepto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de-AT" sz="3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AT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de-AT" sz="3000" spc="-1" strike="noStrike">
                <a:solidFill>
                  <a:srgbClr val="000000"/>
                </a:solidFill>
                <a:latin typeface="Comic Sans MS"/>
              </a:rPr>
              <a:t>(SR-BI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11280" y="1413000"/>
            <a:ext cx="2952720" cy="2253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164360" y="4581360"/>
            <a:ext cx="647640" cy="503280"/>
          </a:xfrm>
          <a:prstGeom prst="octagon">
            <a:avLst>
              <a:gd name="adj" fmla="val 29287"/>
            </a:avLst>
          </a:prstGeom>
          <a:solidFill>
            <a:srgbClr val="cccc66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996f7"/>
            </a:gs>
            <a:gs pos="100000">
              <a:srgbClr val="d9ddf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omic Sans MS"/>
              </a:rPr>
              <a:t>Mit „geschärften“ Sinn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16360" y="3573360"/>
            <a:ext cx="3606840" cy="2220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42920" y="1844640"/>
            <a:ext cx="3313080" cy="2602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00000" y="4724280"/>
            <a:ext cx="38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de-AT" sz="3200" spc="-1" strike="noStrike">
                <a:solidFill>
                  <a:srgbClr val="000000"/>
                </a:solidFill>
                <a:latin typeface="Comic Sans MS"/>
              </a:rPr>
              <a:t>Ta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00"/>
                </a:solidFill>
                <a:latin typeface="Comic Sans MS"/>
              </a:rPr>
              <a:t>und Grei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276640"/>
            <a:ext cx="3887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300" spc="-1" strike="noStrike">
                <a:solidFill>
                  <a:srgbClr val="000000"/>
                </a:solidFill>
                <a:latin typeface="Comic Sans MS"/>
              </a:rPr>
              <a:t>Sehen,…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9:09:07Z</dcterms:created>
  <dc:creator>jm</dc:creator>
  <dc:description/>
  <dc:language>en-US</dc:language>
  <cp:lastModifiedBy>jmadl</cp:lastModifiedBy>
  <dcterms:modified xsi:type="dcterms:W3CDTF">2007-04-16T10:53:49Z</dcterms:modified>
  <cp:revision>306</cp:revision>
  <dc:subject/>
  <dc:title>Combined optical and force microscopy</dc:title>
</cp:coreProperties>
</file>