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4.wmf" ContentType="image/x-wmf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04D-4A9C-4CEB-802F-47596862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1F4-6400-4EE9-911A-7B918B8C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C98-3065-42A2-BAE7-EE800D93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3F8-20E1-48CD-8084-1AC4B235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6EA3-9D82-4919-90CD-115D9446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EAAC-FF0A-44A2-8E90-69A1BE14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F97F-5894-4D9F-BD25-012AFB7A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1A73-E52D-4383-B7AA-2D7C84BB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1B1F-95FF-4707-A6C9-532E7979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DDE6-E1CC-412E-9928-B0539D0F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5777-B1E0-4AE1-A841-9CD531A1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C21-AB0A-4DD6-BFE3-804C56C5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C970-6DC8-4094-A30E-679020D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54EE-97AF-4A98-8B62-8E8AD5BD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4BEF-CE10-4DA2-ADD8-C94FD58F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7F93-5777-41A0-8BCF-969FC3AA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9325-511A-41BB-BB29-FFE614C1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695-1953-4364-A876-E1A66AD7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958-C14B-43F5-BBD3-27AAFD08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EE0-9C4F-456C-BCD2-952AD3C1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EF1-BD2D-4E29-A5E0-8930A611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0B5-818C-467E-A974-216F1C05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388-61A5-4208-9E5F-627FAF7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305-44D9-423C-A876-57EDA47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0A99-2317-4821-8FC1-7F8E2E17CE9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E4E7-D824-4158-B65B-DAEFEE4492B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Helium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03280" y="580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n Teilchen und Löche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411280" y="1473120"/>
            <a:ext cx="4429080" cy="3971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702520" y="4846680"/>
            <a:ext cx="385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200" spc="-1" strike="noStrike">
                <a:solidFill>
                  <a:srgbClr val="000000"/>
                </a:solidFill>
                <a:latin typeface="Times New Roman"/>
              </a:rPr>
              <a:t>Labor für Tieftemperaturphys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inzelgänger in einem See 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r 1 Fermion pro Platz - „Zustand“-  ist mögl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764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inzelgänger in einem See 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r 1 Fermion pro Platz - „Zustand“-  ist mögl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800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764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692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0692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764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8800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0872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4836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764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800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68360" y="5084640"/>
            <a:ext cx="36072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8764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4800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6728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764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8800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4836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0872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2764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2764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4836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4836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2764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800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8764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2728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68360" y="4363920"/>
            <a:ext cx="36072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8728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0872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0872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22764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8800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4836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8728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800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2728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4800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0836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6728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2764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8800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872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68360" y="4005360"/>
            <a:ext cx="36072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8800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836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451640" y="3933720"/>
            <a:ext cx="433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8320" y="347652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ermiener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13960" y="588312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ff9933"/>
                </a:solidFill>
                <a:latin typeface="Arial"/>
              </a:rPr>
              <a:t>„</a:t>
            </a:r>
            <a:r>
              <a:rPr b="1" i="1" lang="de-DE" sz="3600" spc="-1" strike="noStrike">
                <a:solidFill>
                  <a:srgbClr val="ff9933"/>
                </a:solidFill>
                <a:latin typeface="Arial"/>
              </a:rPr>
              <a:t>Fermisee</a:t>
            </a:r>
            <a:r>
              <a:rPr b="0" i="1" lang="de-DE" sz="3600" spc="-1" strike="noStrike">
                <a:solidFill>
                  <a:srgbClr val="ff9933"/>
                </a:solidFill>
                <a:latin typeface="Arial"/>
              </a:rPr>
              <a:t>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in Teilchen, ein Loch und ein Paar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066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ilchen – Lochpaar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8800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728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0800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4764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6692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2728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8764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4800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692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6728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2764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4836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836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4764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0800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5084640"/>
            <a:ext cx="36072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8764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0836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6728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2764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836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0872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6728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2764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2764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8800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4836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4836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6728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4800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8764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2728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68360" y="4363920"/>
            <a:ext cx="36072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0800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4764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8728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08720" y="508464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08720" y="472428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0872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2764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8800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836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08720" y="436392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4764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0800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2728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4800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0836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06728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42764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8800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4836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0872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6728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68360" y="4005360"/>
            <a:ext cx="36072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2764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800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94836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08720" y="4005360"/>
            <a:ext cx="360360" cy="36036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796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il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83080" y="3357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7280" y="3789360"/>
            <a:ext cx="21744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573440" y="2421000"/>
            <a:ext cx="50328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97640" y="3232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reg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5640" y="3645000"/>
            <a:ext cx="21600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00417 -0.21528 E">
                                      <p:cBhvr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ccff"/>
                </a:solidFill>
                <a:latin typeface="Arial"/>
              </a:rPr>
              <a:t>Quasi-(ein)-Teilchen?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43588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leider machen Quasiteilche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85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Beschwerliche Verkleidungen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3631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9933"/>
                </a:solidFill>
                <a:latin typeface="Arial"/>
              </a:rPr>
              <a:t>Vorher: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Viele wechselwirkende Teilc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9933"/>
                </a:solidFill>
                <a:latin typeface="Arial"/>
              </a:rPr>
              <a:t>Jetzt: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   „Quasiteilchen“ - unabhängig aber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de-DE" sz="2600" spc="-1" strike="noStrike">
                <a:solidFill>
                  <a:srgbClr val="ffffff"/>
                </a:solidFill>
                <a:latin typeface="Arial"/>
              </a:rPr>
              <a:t>veränderte Eigenschaft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Verhält sich als hätte es eine </a:t>
            </a:r>
            <a:r>
              <a:rPr b="1" i="1" lang="de-DE" sz="2600" spc="-1" strike="noStrike">
                <a:solidFill>
                  <a:srgbClr val="ff9933"/>
                </a:solidFill>
                <a:latin typeface="Arial"/>
              </a:rPr>
              <a:t>veränderte Mas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                       </a:t>
            </a:r>
            <a:r>
              <a:rPr b="1" i="1" lang="de-DE" sz="3200" spc="-1" strike="noStrike">
                <a:solidFill>
                  <a:srgbClr val="ff9933"/>
                </a:solidFill>
                <a:latin typeface="Arial"/>
              </a:rPr>
              <a:t>„</a:t>
            </a:r>
            <a:r>
              <a:rPr b="1" i="1" lang="de-DE" sz="3200" spc="-1" strike="noStrike">
                <a:solidFill>
                  <a:srgbClr val="ff9933"/>
                </a:solidFill>
                <a:latin typeface="Arial"/>
              </a:rPr>
              <a:t>Effektive Mas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40000" y="623736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1908000" y="2928960"/>
            <a:ext cx="54802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und die wollten wir berechnen!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39640" y="1600200"/>
          <a:ext cx="8146800" cy="4427280"/>
        </p:xfrm>
        <a:graphic>
          <a:graphicData uri="http://schemas.openxmlformats.org/drawingml/2006/table">
            <a:tbl>
              <a:tblPr/>
              <a:tblGrid>
                <a:gridCol w="4074120"/>
                <a:gridCol w="4072680"/>
              </a:tblGrid>
              <a:tr h="44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gebni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„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ktes“ Hel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sihel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611280" y="55864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baseline="30000">
                <a:solidFill>
                  <a:srgbClr val="ff9933"/>
                </a:solidFill>
                <a:latin typeface="Arial"/>
              </a:rPr>
              <a:t>3</a:t>
            </a:r>
            <a:r>
              <a:rPr b="1" lang="de-DE" sz="3200" spc="-1" strike="noStrike">
                <a:solidFill>
                  <a:srgbClr val="ff9933"/>
                </a:solidFill>
                <a:latin typeface="Arial"/>
              </a:rPr>
              <a:t>He:  Stark wechselwirkendes Syst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1225800" cy="12240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5075280" y="220356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ccff"/>
                </a:solidFill>
                <a:latin typeface="Arial"/>
              </a:rPr>
              <a:t>Stark wechselwirkendes System…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Etwas Abschreckung muss sein!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 rot="21469800">
            <a:off x="7667640" y="1844640"/>
            <a:ext cx="676440" cy="4105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 rot="20272800">
            <a:off x="2843280" y="2420640"/>
            <a:ext cx="41767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0" name=""/>
          <p:cNvGraphicFramePr/>
          <p:nvPr/>
        </p:nvGraphicFramePr>
        <p:xfrm>
          <a:off x="8728200" y="5130720"/>
          <a:ext cx="404316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28200" y="5130720"/>
                    <a:ext cx="404316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 rot="1275000">
            <a:off x="1116000" y="2565000"/>
            <a:ext cx="614520" cy="40384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 rot="610200">
            <a:off x="394920" y="1684080"/>
            <a:ext cx="3889440" cy="511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7"/>
          <a:stretch/>
        </p:blipFill>
        <p:spPr>
          <a:xfrm rot="21378600">
            <a:off x="3920760" y="3544920"/>
            <a:ext cx="3400560" cy="1684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8"/>
          <a:stretch/>
        </p:blipFill>
        <p:spPr>
          <a:xfrm rot="472200">
            <a:off x="1908000" y="5589360"/>
            <a:ext cx="48229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Aus dem Leben eines Physikers…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705800" cy="5586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900000" y="5911920"/>
            <a:ext cx="73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s ist mit unserer eleganten Lösung passiert?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Wozu das Ganze?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602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e heilige Neugier des Forschens!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987640" y="1270080"/>
            <a:ext cx="3137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Helium – Was ist das?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147160" cy="4378320"/>
        </p:xfrm>
        <a:graphic>
          <a:graphicData uri="http://schemas.openxmlformats.org/drawingml/2006/table">
            <a:tbl>
              <a:tblPr/>
              <a:tblGrid>
                <a:gridCol w="5267160"/>
                <a:gridCol w="2880000"/>
              </a:tblGrid>
              <a:tr h="24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i="1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119120"/>
            <a:ext cx="822960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el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üllgas für Ballons, Luftschif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ühlmittel in der Tieftemperaturphys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539640" y="1557360"/>
            <a:ext cx="273708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03640" y="386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651640" y="2708280"/>
            <a:ext cx="3044520" cy="237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759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23240" y="1773360"/>
            <a:ext cx="22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Son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griech. „Helios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ccff"/>
                </a:solidFill>
                <a:latin typeface="Arial"/>
              </a:rPr>
              <a:t>Dank &amp; co.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147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99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f. Krotscheck &amp; Institut für Theoretische Phys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ffffff"/>
                </a:solidFill>
                <a:latin typeface="Arial"/>
              </a:rPr>
              <a:t>3.  Dr.  Fenz für die Spinabbildung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330200" y="1846440"/>
            <a:ext cx="6481800" cy="48034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474920" y="6093000"/>
            <a:ext cx="60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2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i="1" lang="de-AT" sz="2200" spc="-1" strike="noStrike">
                <a:solidFill>
                  <a:srgbClr val="000000"/>
                </a:solidFill>
                <a:latin typeface="Times New Roman"/>
              </a:rPr>
              <a:t>Was? Eine Frage? – Da hast du meine Antwort!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Warum uns Helium fasziniert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6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nziger Stoff, der nicht fest wi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upra-flüssi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 bei sehr tiefen Temperatu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26920" y="2852640"/>
          <a:ext cx="7632720" cy="3816360"/>
        </p:xfrm>
        <a:graphic>
          <a:graphicData uri="http://schemas.openxmlformats.org/drawingml/2006/table">
            <a:tbl>
              <a:tblPr/>
              <a:tblGrid>
                <a:gridCol w="3818160"/>
                <a:gridCol w="381456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ähflüssi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icht flüss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98560" y="285264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932360" y="2840040"/>
            <a:ext cx="338616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Helium: Das Atom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92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&amp;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He – der kleine Unterschied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60897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Isotop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2 Protonen + 2 Neutron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25880" y="1635120"/>
            <a:ext cx="4038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2 Protonen + 1 Neutr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98560" y="3573360"/>
            <a:ext cx="720720" cy="7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3573360"/>
            <a:ext cx="720720" cy="7923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8560" y="2781360"/>
            <a:ext cx="720720" cy="7920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9280" y="2781360"/>
            <a:ext cx="720720" cy="79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920" y="3645000"/>
            <a:ext cx="720720" cy="7920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3280" y="2924280"/>
            <a:ext cx="720720" cy="7920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43640" y="3645000"/>
            <a:ext cx="720720" cy="79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Viele Teilchen – Eine Physik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Was wir beschreiben wo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2703600" cy="35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82760" y="530064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Flüssiges </a:t>
            </a:r>
            <a:r>
              <a:rPr b="1" lang="de-AT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Arial"/>
              </a:rPr>
              <a:t>bei T~ 0K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5023" t="30475" r="-1557" b="950"/>
          <a:stretch/>
        </p:blipFill>
        <p:spPr>
          <a:xfrm>
            <a:off x="4716360" y="2205000"/>
            <a:ext cx="4176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ccccff"/>
                </a:solidFill>
                <a:latin typeface="Arial"/>
              </a:rPr>
              <a:t>Wieviel ist (zu-)viel?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Newton (17. Jhd):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eikörpersystem nicht mehr exakt lös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Quantenphysik (Anfang 20. Jhd):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wei- und Einkörperproblem nicht mehr exakt lösbar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Jetzt (Relativistische Quantenfeldtheorie):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akuum nicht mehr lösbar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Null Teilchen sind bereits „zuviel“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3 – 2 – 1 – 0….es geht abwärts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4437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5516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Wir machen uns ein Modell…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543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Die spinnen die Teilchen…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ilchen haben einen Drehimpuls: </a:t>
            </a:r>
            <a:r>
              <a:rPr b="1" lang="de-DE" sz="2800" spc="-1" strike="noStrike">
                <a:solidFill>
                  <a:srgbClr val="ff9933"/>
                </a:solidFill>
                <a:latin typeface="Arial"/>
              </a:rPr>
              <a:t>„Spin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Halbzahliger Spin: „Fermionen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nzzahliger Spin: „Bosonen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800" spc="-1" strike="noStrike" baseline="30000">
                <a:solidFill>
                  <a:srgbClr val="ff9933"/>
                </a:solidFill>
                <a:latin typeface="Arial"/>
              </a:rPr>
              <a:t>3</a:t>
            </a:r>
            <a:r>
              <a:rPr b="1" lang="de-DE" sz="2800" spc="-1" strike="noStrike">
                <a:solidFill>
                  <a:srgbClr val="ff9933"/>
                </a:solidFill>
                <a:latin typeface="Arial"/>
              </a:rPr>
              <a:t>He ist ein Fermion</a:t>
            </a:r>
            <a:r>
              <a:rPr b="0" lang="de-DE" sz="2800" spc="-1" strike="noStrike">
                <a:solidFill>
                  <a:srgbClr val="ff9933"/>
                </a:solidFill>
                <a:latin typeface="Arial"/>
              </a:rPr>
              <a:t>,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e ein Bo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5661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3633840"/>
            <a:ext cx="10792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" spc="-1" strike="noStrike">
                <a:solidFill>
                  <a:srgbClr val="ffffff"/>
                </a:solidFill>
                <a:latin typeface="Arial"/>
              </a:rPr>
              <a:t>(c) W. Fenz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85800" y="3068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Arial"/>
              </a:rPr>
              <a:t>Spin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332000" y="2276640"/>
            <a:ext cx="9795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20:41:22Z</dcterms:created>
  <dc:creator>Springer</dc:creator>
  <dc:description/>
  <dc:language>en-US</dc:language>
  <cp:lastModifiedBy>springer</cp:lastModifiedBy>
  <dcterms:modified xsi:type="dcterms:W3CDTF">2005-04-01T13:39:17Z</dcterms:modified>
  <cp:revision>99</cp:revision>
  <dc:subject/>
  <dc:title>Helium</dc:title>
</cp:coreProperties>
</file>