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D47-E5E5-4758-B9ED-F25168CA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924-8BC4-4CF7-8A24-50B48B60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D58-E2BD-4DD3-9A93-F8F14C34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3E1-5A1C-482D-AB18-BDAFA66A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F81-2602-4C2B-9A0A-48AC8BE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8C9-6F09-42FD-AA78-6F38F28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DB5-CA52-4DE0-9BE0-8BBA677B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A6E-7BF7-42F0-A1A3-E6B4E10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0D1-7131-490A-A5ED-DDD1A18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B13-197C-470E-A2B5-0A8006BD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EC9-18AD-4141-B401-C985B66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21E-2071-4E51-AAC3-9C68765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854-FF90-4D2B-816B-1828B80B0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3.jpeg"/><Relationship Id="rId42" Type="http://schemas.openxmlformats.org/officeDocument/2006/relationships/image" Target="../media/image4.jpeg"/><Relationship Id="rId4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it Mikrokugel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zu Nanostruktu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828800" y="4114800"/>
            <a:ext cx="5105520" cy="1576080"/>
            <a:chOff x="1828800" y="4114800"/>
            <a:chExt cx="5105520" cy="1576080"/>
          </a:xfrm>
        </p:grpSpPr>
        <p:sp>
          <p:nvSpPr>
            <p:cNvPr id="43" name=""/>
            <p:cNvSpPr/>
            <p:nvPr/>
          </p:nvSpPr>
          <p:spPr>
            <a:xfrm>
              <a:off x="1828800" y="4300200"/>
              <a:ext cx="5105520" cy="1390680"/>
            </a:xfrm>
            <a:prstGeom prst="cube">
              <a:avLst>
                <a:gd name="adj" fmla="val 90592"/>
              </a:avLst>
            </a:prstGeom>
            <a:gradFill rotWithShape="0">
              <a:gsLst>
                <a:gs pos="0">
                  <a:srgbClr val="6d91b6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267000" y="4114800"/>
              <a:ext cx="2784600" cy="463680"/>
              <a:chOff x="3267000" y="4114800"/>
              <a:chExt cx="2784600" cy="463680"/>
            </a:xfrm>
          </p:grpSpPr>
          <p:sp>
            <p:nvSpPr>
              <p:cNvPr id="45" name=""/>
              <p:cNvSpPr/>
              <p:nvPr/>
            </p:nvSpPr>
            <p:spPr>
              <a:xfrm flipH="1" rot="5400000">
                <a:off x="5587920" y="4114800"/>
                <a:ext cx="463680" cy="4636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5400000">
                <a:off x="5123160" y="4114440"/>
                <a:ext cx="463680" cy="464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4658760" y="4114440"/>
                <a:ext cx="463680" cy="464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5400000">
                <a:off x="4195440" y="4114800"/>
                <a:ext cx="463680" cy="4636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3730680" y="4114440"/>
                <a:ext cx="463680" cy="4640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3266640" y="4114440"/>
                <a:ext cx="463680" cy="4640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895840" y="4299840"/>
              <a:ext cx="3248640" cy="463320"/>
              <a:chOff x="2895840" y="4299840"/>
              <a:chExt cx="3248640" cy="463320"/>
            </a:xfrm>
          </p:grpSpPr>
          <p:sp>
            <p:nvSpPr>
              <p:cNvPr id="52" name=""/>
              <p:cNvSpPr/>
              <p:nvPr/>
            </p:nvSpPr>
            <p:spPr>
              <a:xfrm flipH="1" rot="5400000">
                <a:off x="3359880" y="4299480"/>
                <a:ext cx="463320" cy="4640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3824280" y="4299480"/>
                <a:ext cx="463320" cy="463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5400000">
                <a:off x="4287960" y="4299480"/>
                <a:ext cx="463320" cy="464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4752000" y="4299480"/>
                <a:ext cx="463320" cy="464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5400000">
                <a:off x="5216760" y="4299480"/>
                <a:ext cx="463320" cy="46368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5680440" y="4299480"/>
                <a:ext cx="463320" cy="464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5400000">
                <a:off x="2895840" y="4299480"/>
                <a:ext cx="463320" cy="464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524320" y="4485600"/>
              <a:ext cx="3712680" cy="463680"/>
              <a:chOff x="2524320" y="4485600"/>
              <a:chExt cx="3712680" cy="463680"/>
            </a:xfrm>
          </p:grpSpPr>
          <p:sp>
            <p:nvSpPr>
              <p:cNvPr id="60" name=""/>
              <p:cNvSpPr/>
              <p:nvPr/>
            </p:nvSpPr>
            <p:spPr>
              <a:xfrm flipH="1" rot="5400000">
                <a:off x="2523960" y="4485240"/>
                <a:ext cx="463680" cy="464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2988000" y="4485240"/>
                <a:ext cx="463680" cy="464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rot="5400000">
                <a:off x="3452760" y="4485600"/>
                <a:ext cx="463680" cy="46368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3916080" y="4485240"/>
                <a:ext cx="463680" cy="464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4380480" y="4485240"/>
                <a:ext cx="463680" cy="464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4845240" y="4485600"/>
                <a:ext cx="463680" cy="46368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5308560" y="4485240"/>
                <a:ext cx="463680" cy="464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5772600" y="4485240"/>
                <a:ext cx="463680" cy="464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617560" y="4671000"/>
              <a:ext cx="3248640" cy="463680"/>
              <a:chOff x="2617560" y="4671000"/>
              <a:chExt cx="3248640" cy="463680"/>
            </a:xfrm>
          </p:grpSpPr>
          <p:sp>
            <p:nvSpPr>
              <p:cNvPr id="69" name=""/>
              <p:cNvSpPr/>
              <p:nvPr/>
            </p:nvSpPr>
            <p:spPr>
              <a:xfrm flipH="1" rot="5400000">
                <a:off x="3545280" y="4670640"/>
                <a:ext cx="463680" cy="464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4009320" y="4670640"/>
                <a:ext cx="463680" cy="464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4474080" y="4671000"/>
                <a:ext cx="463680" cy="46368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4937400" y="4670640"/>
                <a:ext cx="463680" cy="46404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401800" y="4670640"/>
                <a:ext cx="463680" cy="46404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2617200" y="4670640"/>
                <a:ext cx="463680" cy="46404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081960" y="4671000"/>
                <a:ext cx="463680" cy="46368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710440" y="4856040"/>
              <a:ext cx="2783880" cy="463320"/>
              <a:chOff x="2710440" y="4856040"/>
              <a:chExt cx="2783880" cy="463320"/>
            </a:xfrm>
          </p:grpSpPr>
          <p:sp>
            <p:nvSpPr>
              <p:cNvPr id="77" name=""/>
              <p:cNvSpPr/>
              <p:nvPr/>
            </p:nvSpPr>
            <p:spPr>
              <a:xfrm flipH="1" rot="5400000">
                <a:off x="2710440" y="4855680"/>
                <a:ext cx="463320" cy="46368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3173760" y="4855680"/>
                <a:ext cx="463320" cy="46404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3638160" y="4855680"/>
                <a:ext cx="463320" cy="46404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4102560" y="4855680"/>
                <a:ext cx="463320" cy="46368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4566240" y="4855680"/>
                <a:ext cx="463320" cy="464040"/>
              </a:xfrm>
              <a:prstGeom prst="ellips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030280" y="4855680"/>
                <a:ext cx="463320" cy="464040"/>
              </a:xfrm>
              <a:prstGeom prst="ellips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 rot="5400000">
              <a:off x="2802600" y="5041440"/>
              <a:ext cx="463680" cy="464040"/>
            </a:xfrm>
            <a:prstGeom prst="ellips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5400000">
              <a:off x="3266640" y="5041440"/>
              <a:ext cx="463680" cy="464040"/>
            </a:xfrm>
            <a:prstGeom prst="ellips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3731760" y="5041800"/>
              <a:ext cx="463680" cy="463680"/>
            </a:xfrm>
            <a:prstGeom prst="ellips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5400000">
              <a:off x="4195080" y="5041440"/>
              <a:ext cx="463680" cy="464040"/>
            </a:xfrm>
            <a:prstGeom prst="ellips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4659120" y="5041440"/>
              <a:ext cx="463680" cy="464040"/>
            </a:xfrm>
            <a:prstGeom prst="ellips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477120" y="1143000"/>
            <a:ext cx="1604880" cy="1798560"/>
            <a:chOff x="6477120" y="1143000"/>
            <a:chExt cx="1604880" cy="1798560"/>
          </a:xfrm>
        </p:grpSpPr>
        <p:pic>
          <p:nvPicPr>
            <p:cNvPr id="89" name="3b" descr=""/>
            <p:cNvPicPr/>
            <p:nvPr/>
          </p:nvPicPr>
          <p:blipFill>
            <a:blip r:embed="rId41"/>
            <a:stretch/>
          </p:blipFill>
          <p:spPr>
            <a:xfrm>
              <a:off x="6477120" y="1143000"/>
              <a:ext cx="16048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732720" y="2298600"/>
              <a:ext cx="29988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2600" y="2127240"/>
              <a:ext cx="30024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90" idx="0"/>
              <a:endCxn id="91" idx="0"/>
            </p:cNvCxnSpPr>
            <p:nvPr/>
          </p:nvCxnSpPr>
          <p:spPr>
            <a:xfrm flipV="1">
              <a:off x="6732720" y="2127240"/>
              <a:ext cx="300240" cy="171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93" name=""/>
            <p:cNvCxnSpPr>
              <a:stCxn id="90" idx="1"/>
              <a:endCxn id="91" idx="1"/>
            </p:cNvCxnSpPr>
            <p:nvPr/>
          </p:nvCxnSpPr>
          <p:spPr>
            <a:xfrm flipV="1">
              <a:off x="7032240" y="2298240"/>
              <a:ext cx="300240" cy="171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1143000" y="1143000"/>
            <a:ext cx="1604880" cy="1798560"/>
            <a:chOff x="1143000" y="1143000"/>
            <a:chExt cx="1604880" cy="1798560"/>
          </a:xfrm>
        </p:grpSpPr>
        <p:pic>
          <p:nvPicPr>
            <p:cNvPr id="95" name="3a" descr=""/>
            <p:cNvPicPr/>
            <p:nvPr/>
          </p:nvPicPr>
          <p:blipFill>
            <a:blip r:embed="rId42"/>
            <a:stretch/>
          </p:blipFill>
          <p:spPr>
            <a:xfrm>
              <a:off x="1143000" y="1143000"/>
              <a:ext cx="16048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00040" y="2298600"/>
              <a:ext cx="29808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55640" y="2127240"/>
              <a:ext cx="299520" cy="17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"/>
            <p:cNvCxnSpPr>
              <a:stCxn id="96" idx="0"/>
              <a:endCxn id="97" idx="0"/>
            </p:cNvCxnSpPr>
            <p:nvPr/>
          </p:nvCxnSpPr>
          <p:spPr>
            <a:xfrm flipV="1">
              <a:off x="1400040" y="2127240"/>
              <a:ext cx="255960" cy="171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99" name=""/>
            <p:cNvCxnSpPr>
              <a:stCxn id="96" idx="1"/>
              <a:endCxn id="97" idx="1"/>
            </p:cNvCxnSpPr>
            <p:nvPr/>
          </p:nvCxnSpPr>
          <p:spPr>
            <a:xfrm flipV="1">
              <a:off x="1697400" y="2298240"/>
              <a:ext cx="257400" cy="171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100" name=""/>
          <p:cNvGrpSpPr/>
          <p:nvPr/>
        </p:nvGrpSpPr>
        <p:grpSpPr>
          <a:xfrm>
            <a:off x="3308760" y="1076400"/>
            <a:ext cx="2754360" cy="1747800"/>
            <a:chOff x="3308760" y="1076400"/>
            <a:chExt cx="2754360" cy="1747800"/>
          </a:xfrm>
        </p:grpSpPr>
        <p:sp>
          <p:nvSpPr>
            <p:cNvPr id="101" name=""/>
            <p:cNvSpPr/>
            <p:nvPr/>
          </p:nvSpPr>
          <p:spPr>
            <a:xfrm>
              <a:off x="3308760" y="1076400"/>
              <a:ext cx="3927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12" y="898"/>
                  </a:moveTo>
                  <a:arcTo wR="10800" hR="10800" stAng="-3988067" swAng="3988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12" y="898"/>
                  </a:moveTo>
                  <a:arcTo wR="10800" hR="10800" stAng="-3988067" swAng="3988067"/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40792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24268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07924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91580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75056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58712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442368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25844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409500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93156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766320" y="229176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5400000">
              <a:off x="3865680" y="2028960"/>
              <a:ext cx="328320" cy="328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5400000">
              <a:off x="4193280" y="2028600"/>
              <a:ext cx="32832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rot="5400000">
              <a:off x="4521240" y="2029320"/>
              <a:ext cx="328320" cy="327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03600" y="1865160"/>
              <a:ext cx="2165400" cy="16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3701160" y="2028600"/>
              <a:ext cx="32832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5400000">
              <a:off x="4029120" y="2029320"/>
              <a:ext cx="328320" cy="327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5400000">
              <a:off x="4357080" y="2028600"/>
              <a:ext cx="32832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5400000">
              <a:off x="5178600" y="2028960"/>
              <a:ext cx="328320" cy="328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5400000">
              <a:off x="4849200" y="2028600"/>
              <a:ext cx="32832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5400000">
              <a:off x="5341320" y="2028600"/>
              <a:ext cx="32832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rot="5400000">
              <a:off x="5013360" y="2029320"/>
              <a:ext cx="328320" cy="327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4686480" y="2028960"/>
              <a:ext cx="328320" cy="328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670000" y="1076400"/>
              <a:ext cx="3927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12" y="898"/>
                  </a:moveTo>
                  <a:arcTo wR="10800" hR="10800" stAng="-3988067" swAng="3988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12" y="898"/>
                  </a:moveTo>
                  <a:arcTo wR="10800" hR="10800" stAng="-3988067" swAng="3988067"/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73464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89808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71888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5364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9020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2676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06152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37444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1100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046840" y="2522520"/>
              <a:ext cx="25848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82320" y="2522520"/>
              <a:ext cx="258840" cy="301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880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224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27480" y="271944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092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5436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960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7516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172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46840" y="271944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3040" y="271944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61000" y="1295280"/>
            <a:ext cx="52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n einer Kugel zum Kugelg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klimi1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425680" cy="1906560"/>
          </a:xfrm>
          <a:prstGeom prst="rect">
            <a:avLst/>
          </a:prstGeom>
          <a:ln w="0">
            <a:noFill/>
          </a:ln>
        </p:spPr>
      </p:pic>
      <p:pic>
        <p:nvPicPr>
          <p:cNvPr id="273" name="klimi4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2262240" cy="171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080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klimi3" descr=""/>
          <p:cNvPicPr/>
          <p:nvPr/>
        </p:nvPicPr>
        <p:blipFill>
          <a:blip r:embed="rId4"/>
          <a:stretch/>
        </p:blipFill>
        <p:spPr>
          <a:xfrm>
            <a:off x="1143000" y="3886200"/>
            <a:ext cx="4140360" cy="188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519200" y="2286000"/>
            <a:ext cx="34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bstanordnung der Kug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fgrund natürlicher Proz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22760" y="129528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wendungs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03360" y="3322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20000" y="2342520"/>
            <a:ext cx="2724480" cy="1584360"/>
            <a:chOff x="1620000" y="2342520"/>
            <a:chExt cx="2724480" cy="1584360"/>
          </a:xfrm>
        </p:grpSpPr>
        <p:grpSp>
          <p:nvGrpSpPr>
            <p:cNvPr id="281" name=""/>
            <p:cNvGrpSpPr/>
            <p:nvPr/>
          </p:nvGrpSpPr>
          <p:grpSpPr>
            <a:xfrm>
              <a:off x="2074680" y="3544560"/>
              <a:ext cx="1815840" cy="227160"/>
              <a:chOff x="2074680" y="3544560"/>
              <a:chExt cx="1815840" cy="227160"/>
            </a:xfrm>
          </p:grpSpPr>
          <p:sp>
            <p:nvSpPr>
              <p:cNvPr id="282" name=""/>
              <p:cNvSpPr/>
              <p:nvPr/>
            </p:nvSpPr>
            <p:spPr>
              <a:xfrm flipH="1" flipV="1">
                <a:off x="3047760" y="3544200"/>
                <a:ext cx="19512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3532680" y="3544200"/>
                <a:ext cx="1954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3371760" y="3544200"/>
                <a:ext cx="19512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2236680" y="3544200"/>
                <a:ext cx="19512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3694680" y="3544200"/>
                <a:ext cx="1954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09760" y="3544200"/>
                <a:ext cx="1936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2885760" y="3544200"/>
                <a:ext cx="1936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2397600" y="3544200"/>
                <a:ext cx="1954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2562120" y="3544200"/>
                <a:ext cx="19368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2722320" y="3544200"/>
                <a:ext cx="19512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2074680" y="3544200"/>
                <a:ext cx="195120" cy="2271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620000" y="2342520"/>
              <a:ext cx="2724480" cy="1584360"/>
              <a:chOff x="1620000" y="2342520"/>
              <a:chExt cx="2724480" cy="15843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620000" y="2342520"/>
                <a:ext cx="2724480" cy="1584360"/>
                <a:chOff x="1620000" y="2342520"/>
                <a:chExt cx="2724480" cy="15843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97320" y="2668320"/>
                  <a:ext cx="905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000" y="2342520"/>
                  <a:ext cx="388440" cy="158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12" y="898"/>
                      </a:moveTo>
                      <a:arcTo wR="10800" hR="10800" stAng="-3988067" swAng="3988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12" y="898"/>
                      </a:moveTo>
                      <a:arcTo wR="10800" hR="10800" stAng="-3988067" swAng="3988067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955680" y="2342520"/>
                  <a:ext cx="388440" cy="158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12" y="898"/>
                      </a:moveTo>
                      <a:arcTo wR="10800" hR="10800" stAng="-3988067" swAng="3988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12" y="898"/>
                      </a:moveTo>
                      <a:arcTo wR="10800" hR="10800" stAng="-3988067" swAng="3988067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971360" y="2617920"/>
                <a:ext cx="197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LASER) LICH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1523880" y="3733920"/>
            <a:ext cx="2962080" cy="1909800"/>
            <a:chOff x="1523880" y="3733920"/>
            <a:chExt cx="2962080" cy="1909800"/>
          </a:xfrm>
        </p:grpSpPr>
        <p:sp>
          <p:nvSpPr>
            <p:cNvPr id="300" name=""/>
            <p:cNvSpPr/>
            <p:nvPr/>
          </p:nvSpPr>
          <p:spPr>
            <a:xfrm>
              <a:off x="3789000" y="3733920"/>
              <a:ext cx="696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3880" y="3776760"/>
              <a:ext cx="2917800" cy="174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4281480"/>
              <a:ext cx="2917800" cy="13622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138400" y="3776760"/>
            <a:ext cx="1685520" cy="1801440"/>
            <a:chOff x="2138400" y="3776760"/>
            <a:chExt cx="1685520" cy="1801440"/>
          </a:xfrm>
        </p:grpSpPr>
        <p:grpSp>
          <p:nvGrpSpPr>
            <p:cNvPr id="304" name=""/>
            <p:cNvGrpSpPr/>
            <p:nvPr/>
          </p:nvGrpSpPr>
          <p:grpSpPr>
            <a:xfrm>
              <a:off x="2138400" y="3776760"/>
              <a:ext cx="1685520" cy="87120"/>
              <a:chOff x="2138400" y="3776760"/>
              <a:chExt cx="1685520" cy="87120"/>
            </a:xfrm>
          </p:grpSpPr>
          <p:sp>
            <p:nvSpPr>
              <p:cNvPr id="305" name=""/>
              <p:cNvSpPr/>
              <p:nvPr/>
            </p:nvSpPr>
            <p:spPr>
              <a:xfrm flipH="1" flipV="1">
                <a:off x="2138400" y="3776760"/>
                <a:ext cx="6480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246132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278532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311076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343440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375840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2949480" y="3776760"/>
                <a:ext cx="633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229932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262332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273480" y="3776760"/>
                <a:ext cx="6480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3596400" y="3776760"/>
                <a:ext cx="6516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138400" y="4346280"/>
              <a:ext cx="1685520" cy="1231920"/>
              <a:chOff x="2138400" y="4346280"/>
              <a:chExt cx="1685520" cy="1231920"/>
            </a:xfrm>
          </p:grpSpPr>
          <p:sp>
            <p:nvSpPr>
              <p:cNvPr id="317" name=""/>
              <p:cNvSpPr/>
              <p:nvPr/>
            </p:nvSpPr>
            <p:spPr>
              <a:xfrm flipH="1" rot="5400000">
                <a:off x="2461320" y="434628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2138040" y="4346280"/>
                <a:ext cx="6516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5400000">
                <a:off x="2785320" y="434628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3110760" y="434628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5400000">
                <a:off x="3434400" y="434628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3758400" y="434628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5400000">
                <a:off x="2299320" y="46382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2623320" y="46382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5400000">
                <a:off x="2948400" y="4638960"/>
                <a:ext cx="65160" cy="63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3273120" y="4638240"/>
                <a:ext cx="6516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5400000">
                <a:off x="3596400" y="46382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2138040" y="4928760"/>
                <a:ext cx="6516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5400000">
                <a:off x="2461320" y="492876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2785320" y="492876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5400000">
                <a:off x="3110760" y="492876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3434400" y="492876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5400000">
                <a:off x="3758400" y="492876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2299320" y="5221080"/>
                <a:ext cx="6480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5400000">
                <a:off x="2623320" y="5221080"/>
                <a:ext cx="6480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2948760" y="5222160"/>
                <a:ext cx="64800" cy="63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5400000">
                <a:off x="3273480" y="5221440"/>
                <a:ext cx="6480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3596400" y="5221080"/>
                <a:ext cx="6480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5400000">
                <a:off x="2138040" y="5513040"/>
                <a:ext cx="6516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2461320" y="55130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5400000">
                <a:off x="2785320" y="55130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3110760" y="55130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5400000">
                <a:off x="3434400" y="55130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5400000">
                <a:off x="3758400" y="5513040"/>
                <a:ext cx="6516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8d8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523880" y="3044880"/>
            <a:ext cx="2917800" cy="565200"/>
            <a:chOff x="1523880" y="3044880"/>
            <a:chExt cx="2917800" cy="565200"/>
          </a:xfrm>
        </p:grpSpPr>
        <p:sp>
          <p:nvSpPr>
            <p:cNvPr id="346" name=""/>
            <p:cNvSpPr/>
            <p:nvPr/>
          </p:nvSpPr>
          <p:spPr>
            <a:xfrm flipH="1" rot="5400000">
              <a:off x="217152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5400000">
              <a:off x="2495160" y="3285360"/>
              <a:ext cx="325440" cy="323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2819880" y="3285360"/>
              <a:ext cx="325440" cy="324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3122640"/>
              <a:ext cx="2917800" cy="162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5400000">
              <a:off x="200952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5400000">
              <a:off x="2332440" y="3286080"/>
              <a:ext cx="325440" cy="3222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5400000">
              <a:off x="265716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5400000">
              <a:off x="346860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5400000">
              <a:off x="3143880" y="3285360"/>
              <a:ext cx="325440" cy="324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5400000">
              <a:off x="363024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5400000">
              <a:off x="3305520" y="3286080"/>
              <a:ext cx="325440" cy="3222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5400000">
              <a:off x="2982600" y="3284640"/>
              <a:ext cx="325440" cy="325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3880" y="30448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649480" y="3398400"/>
            <a:ext cx="1838520" cy="230040"/>
            <a:chOff x="5649480" y="3398400"/>
            <a:chExt cx="1838520" cy="230040"/>
          </a:xfrm>
        </p:grpSpPr>
        <p:sp>
          <p:nvSpPr>
            <p:cNvPr id="360" name=""/>
            <p:cNvSpPr/>
            <p:nvPr/>
          </p:nvSpPr>
          <p:spPr>
            <a:xfrm flipH="1" flipV="1">
              <a:off x="7291440" y="3398040"/>
              <a:ext cx="19656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12548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696204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799320" y="3398040"/>
              <a:ext cx="19656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663336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46992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6307200" y="3398040"/>
              <a:ext cx="19656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14124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597780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815080" y="3398040"/>
              <a:ext cx="19656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649120" y="3398040"/>
              <a:ext cx="196920" cy="23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86400" y="2971800"/>
            <a:ext cx="2165400" cy="491760"/>
            <a:chOff x="5486400" y="2971800"/>
            <a:chExt cx="2165400" cy="491760"/>
          </a:xfrm>
        </p:grpSpPr>
        <p:sp>
          <p:nvSpPr>
            <p:cNvPr id="372" name=""/>
            <p:cNvSpPr/>
            <p:nvPr/>
          </p:nvSpPr>
          <p:spPr>
            <a:xfrm flipH="1" rot="5400000">
              <a:off x="574740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607608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6404400" y="3135600"/>
              <a:ext cx="328680" cy="326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6400" y="2971800"/>
              <a:ext cx="2165400" cy="163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5400000">
              <a:off x="558396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5400000">
              <a:off x="5912280" y="3135600"/>
              <a:ext cx="328680" cy="326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5400000">
              <a:off x="623952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00000">
              <a:off x="706032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5400000">
              <a:off x="673164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5400000">
              <a:off x="722376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5400000">
              <a:off x="6896520" y="3135600"/>
              <a:ext cx="328680" cy="326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5400000">
              <a:off x="6568200" y="3134880"/>
              <a:ext cx="328680" cy="328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191560" y="2183040"/>
            <a:ext cx="2754000" cy="1606320"/>
            <a:chOff x="5191560" y="2183040"/>
            <a:chExt cx="2754000" cy="1606320"/>
          </a:xfrm>
        </p:grpSpPr>
        <p:sp>
          <p:nvSpPr>
            <p:cNvPr id="385" name=""/>
            <p:cNvSpPr/>
            <p:nvPr/>
          </p:nvSpPr>
          <p:spPr>
            <a:xfrm>
              <a:off x="5191560" y="2183040"/>
              <a:ext cx="3927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12" y="898"/>
                  </a:moveTo>
                  <a:arcTo wR="10800" hR="10800" stAng="-3988067" swAng="3988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12" y="898"/>
                  </a:moveTo>
                  <a:arcTo wR="10800" hR="10800" stAng="-3988067" swAng="3988067"/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552440" y="2183040"/>
              <a:ext cx="3927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12" y="898"/>
                  </a:moveTo>
                  <a:arcTo wR="10800" hR="10800" stAng="-3988067" swAng="3988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12" y="898"/>
                  </a:moveTo>
                  <a:arcTo wR="10800" hR="10800" stAng="-3988067" swAng="3988067"/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617800" y="3629160"/>
            <a:ext cx="1898640" cy="301320"/>
            <a:chOff x="5617800" y="3629160"/>
            <a:chExt cx="1898640" cy="301320"/>
          </a:xfrm>
        </p:grpSpPr>
        <p:sp>
          <p:nvSpPr>
            <p:cNvPr id="388" name=""/>
            <p:cNvSpPr/>
            <p:nvPr/>
          </p:nvSpPr>
          <p:spPr>
            <a:xfrm flipH="1">
              <a:off x="561744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78088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60168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43644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27300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10956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94432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25724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09380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92856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765120" y="3629160"/>
              <a:ext cx="258840" cy="301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8160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5040" y="382572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028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7372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37160" y="382572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0240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796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9452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29280" y="3825720"/>
              <a:ext cx="9864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65840" y="3825720"/>
              <a:ext cx="98280" cy="98280"/>
            </a:xfrm>
            <a:prstGeom prst="triangle">
              <a:avLst>
                <a:gd name="adj" fmla="val 4444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181480" y="4114800"/>
            <a:ext cx="2895480" cy="1550880"/>
            <a:chOff x="5181480" y="4114800"/>
            <a:chExt cx="2895480" cy="1550880"/>
          </a:xfrm>
        </p:grpSpPr>
        <p:grpSp>
          <p:nvGrpSpPr>
            <p:cNvPr id="410" name=""/>
            <p:cNvGrpSpPr/>
            <p:nvPr/>
          </p:nvGrpSpPr>
          <p:grpSpPr>
            <a:xfrm>
              <a:off x="5181480" y="4114800"/>
              <a:ext cx="1384200" cy="1550880"/>
              <a:chOff x="5181480" y="4114800"/>
              <a:chExt cx="1384200" cy="1550880"/>
            </a:xfrm>
          </p:grpSpPr>
          <p:pic>
            <p:nvPicPr>
              <p:cNvPr id="411" name="3a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1480" y="4114800"/>
                <a:ext cx="138420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5403240" y="5111280"/>
                <a:ext cx="25704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23560" y="4963320"/>
                <a:ext cx="25848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4" name=""/>
              <p:cNvCxnSpPr>
                <a:stCxn id="412" idx="0"/>
                <a:endCxn id="413" idx="0"/>
              </p:cNvCxnSpPr>
              <p:nvPr/>
            </p:nvCxnSpPr>
            <p:spPr>
              <a:xfrm flipV="1">
                <a:off x="5403240" y="4962960"/>
                <a:ext cx="221040" cy="148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15" name=""/>
              <p:cNvCxnSpPr>
                <a:stCxn id="412" idx="1"/>
                <a:endCxn id="413" idx="1"/>
              </p:cNvCxnSpPr>
              <p:nvPr/>
            </p:nvCxnSpPr>
            <p:spPr>
              <a:xfrm flipV="1">
                <a:off x="5660280" y="5110920"/>
                <a:ext cx="222120" cy="148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416" name=""/>
            <p:cNvGrpSpPr/>
            <p:nvPr/>
          </p:nvGrpSpPr>
          <p:grpSpPr>
            <a:xfrm>
              <a:off x="6693120" y="4114800"/>
              <a:ext cx="1383840" cy="1550880"/>
              <a:chOff x="6693120" y="4114800"/>
              <a:chExt cx="1383840" cy="1550880"/>
            </a:xfrm>
          </p:grpSpPr>
          <p:pic>
            <p:nvPicPr>
              <p:cNvPr id="417" name="3b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3120" y="4114800"/>
                <a:ext cx="13838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913440" y="5111280"/>
                <a:ext cx="25848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71920" y="4963320"/>
                <a:ext cx="25884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0" name=""/>
              <p:cNvCxnSpPr>
                <a:stCxn id="418" idx="0"/>
                <a:endCxn id="419" idx="0"/>
              </p:cNvCxnSpPr>
              <p:nvPr/>
            </p:nvCxnSpPr>
            <p:spPr>
              <a:xfrm flipV="1">
                <a:off x="6913440" y="4962960"/>
                <a:ext cx="259200" cy="148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21" name=""/>
              <p:cNvCxnSpPr>
                <a:stCxn id="418" idx="1"/>
                <a:endCxn id="419" idx="1"/>
              </p:cNvCxnSpPr>
              <p:nvPr/>
            </p:nvCxnSpPr>
            <p:spPr>
              <a:xfrm flipV="1">
                <a:off x="7171560" y="5110920"/>
                <a:ext cx="259560" cy="148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5600" y="137160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 1: Ablation von Polym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hintergrund4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119400" cy="3124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432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95520" y="350532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blation = „Verdampfe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6800" y="13716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 2: Schmelzen von Sili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hintergrund2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200400" cy="1890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674360" y="2209680"/>
            <a:ext cx="21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kales Schmel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Änderung von Dichte + Oberflächenspan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3040" y="49528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g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09680" y="2819520"/>
            <a:ext cx="10670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cone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3200400" cy="15508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209680" y="4343400"/>
            <a:ext cx="10670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89480" y="129528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ispiel 3: Ätzen von Wolf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hintergrund1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124440" cy="3112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731600" y="4267080"/>
            <a:ext cx="2718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+5 W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W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26280" y="2819520"/>
            <a:ext cx="240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lfram wird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s geä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6800" y="13716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ukturieren mit Interferenzm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hintergrund5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3152880" cy="3162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287000" y="2743200"/>
            <a:ext cx="32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sp. Ab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rukturen &lt; 100 nm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97640" y="12952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5600" y="2209680"/>
            <a:ext cx="400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dee eines Mikrolinsengi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krokugeln regelmäßig an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wendung der Linsengi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wendung Interferenzm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952880"/>
            <a:ext cx="1079640" cy="503280"/>
          </a:xfrm>
          <a:prstGeom prst="rightArrow">
            <a:avLst>
              <a:gd name="adj1" fmla="val 50000"/>
              <a:gd name="adj2" fmla="val 536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6840" y="4800600"/>
            <a:ext cx="44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usende-Millionen Struk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inem Sch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805120" cy="2236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2581200" cy="1871640"/>
          </a:xfrm>
          <a:prstGeom prst="rect">
            <a:avLst/>
          </a:prstGeom>
          <a:ln w="0">
            <a:noFill/>
          </a:ln>
        </p:spPr>
      </p:pic>
      <p:pic>
        <p:nvPicPr>
          <p:cNvPr id="453" name="Bild3" descr=""/>
          <p:cNvPicPr/>
          <p:nvPr/>
        </p:nvPicPr>
        <p:blipFill>
          <a:blip r:embed="rId4"/>
          <a:stretch/>
        </p:blipFill>
        <p:spPr>
          <a:xfrm>
            <a:off x="3276720" y="2209680"/>
            <a:ext cx="2819160" cy="1987560"/>
          </a:xfrm>
          <a:prstGeom prst="rect">
            <a:avLst/>
          </a:prstGeom>
          <a:ln w="0">
            <a:noFill/>
          </a:ln>
        </p:spPr>
      </p:pic>
      <p:pic>
        <p:nvPicPr>
          <p:cNvPr id="454" name="hintergrund1" descr=""/>
          <p:cNvPicPr/>
          <p:nvPr/>
        </p:nvPicPr>
        <p:blipFill>
          <a:blip r:embed="rId5"/>
          <a:stretch/>
        </p:blipFill>
        <p:spPr>
          <a:xfrm>
            <a:off x="5562720" y="1295280"/>
            <a:ext cx="2334960" cy="2327400"/>
          </a:xfrm>
          <a:prstGeom prst="rect">
            <a:avLst/>
          </a:prstGeom>
          <a:ln w="0">
            <a:noFill/>
          </a:ln>
        </p:spPr>
      </p:pic>
      <p:pic>
        <p:nvPicPr>
          <p:cNvPr id="455" name="Folie1" descr=""/>
          <p:cNvPicPr/>
          <p:nvPr/>
        </p:nvPicPr>
        <p:blipFill>
          <a:blip r:embed="rId6"/>
          <a:stretch/>
        </p:blipFill>
        <p:spPr>
          <a:xfrm>
            <a:off x="1219320" y="12193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057400" y="1143000"/>
            <a:ext cx="57913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Danke für di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Aufmerksamkei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71000" y="1371600"/>
            <a:ext cx="71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ist ein Mikrometer, was ein Nanome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2096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n Mikrometer ist ein Tausendstel, ein Nanometer ein Millionstel Millime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air_on_4m" descr=""/>
          <p:cNvPicPr/>
          <p:nvPr/>
        </p:nvPicPr>
        <p:blipFill>
          <a:blip r:embed="rId2"/>
          <a:srcRect l="0" t="16207" r="0" b="0"/>
          <a:stretch/>
        </p:blipFill>
        <p:spPr>
          <a:xfrm>
            <a:off x="1523880" y="2743200"/>
            <a:ext cx="2781360" cy="2757600"/>
          </a:xfrm>
          <a:prstGeom prst="rect">
            <a:avLst/>
          </a:prstGeom>
          <a:ln w="0">
            <a:noFill/>
          </a:ln>
        </p:spPr>
      </p:pic>
      <p:pic>
        <p:nvPicPr>
          <p:cNvPr id="151" name="transistor2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278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6760" y="129528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as sind Mikro- und Nanostruktur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08040" y="2133720"/>
            <a:ext cx="64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ikrostruktur 1.....einige 100 µm                  Nanostruktur 1... einige 1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033NOTW4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190960" cy="2200320"/>
          </a:xfrm>
          <a:prstGeom prst="rect">
            <a:avLst/>
          </a:prstGeom>
          <a:ln w="0">
            <a:noFill/>
          </a:ln>
        </p:spPr>
      </p:pic>
      <p:pic>
        <p:nvPicPr>
          <p:cNvPr id="156" name="100mueloch" descr=""/>
          <p:cNvPicPr/>
          <p:nvPr/>
        </p:nvPicPr>
        <p:blipFill>
          <a:blip r:embed="rId3"/>
          <a:stretch/>
        </p:blipFill>
        <p:spPr>
          <a:xfrm>
            <a:off x="1981080" y="2666880"/>
            <a:ext cx="2192400" cy="2198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5600" y="502920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ruktur: Loch, Abscheidung.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1280" y="1295280"/>
            <a:ext cx="71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Wozu benötigt man Mikro und Nanostruktur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02640" y="2057400"/>
            <a:ext cx="27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stellung / Miniaturisie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on Halbleiter Baueleme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hipAnt2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2954520" cy="2406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8080" y="220968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e Eigenschaf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otus_habitus_pur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1565280" cy="2408040"/>
          </a:xfrm>
          <a:prstGeom prst="rect">
            <a:avLst/>
          </a:prstGeom>
          <a:ln w="0">
            <a:noFill/>
          </a:ln>
        </p:spPr>
      </p:pic>
      <p:pic>
        <p:nvPicPr>
          <p:cNvPr id="164" name="lotus_rem_grossgedr" descr=""/>
          <p:cNvPicPr/>
          <p:nvPr/>
        </p:nvPicPr>
        <p:blipFill>
          <a:blip r:embed="rId4"/>
          <a:stretch/>
        </p:blipFill>
        <p:spPr>
          <a:xfrm>
            <a:off x="6477120" y="2819520"/>
            <a:ext cx="15145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447920" y="4191120"/>
            <a:ext cx="1941480" cy="304560"/>
            <a:chOff x="1447920" y="4191120"/>
            <a:chExt cx="1941480" cy="304560"/>
          </a:xfrm>
        </p:grpSpPr>
        <p:sp>
          <p:nvSpPr>
            <p:cNvPr id="166" name=""/>
            <p:cNvSpPr/>
            <p:nvPr/>
          </p:nvSpPr>
          <p:spPr>
            <a:xfrm>
              <a:off x="1447920" y="4191120"/>
              <a:ext cx="647640" cy="304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1760" y="4191120"/>
              <a:ext cx="647640" cy="304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5720" y="12952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zeugung von Struk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8040" y="19051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 Li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90512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ere 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4495680"/>
            <a:ext cx="25905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191120"/>
            <a:ext cx="25905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47920" y="4191120"/>
            <a:ext cx="1941480" cy="304560"/>
            <a:chOff x="1447920" y="4191120"/>
            <a:chExt cx="1941480" cy="304560"/>
          </a:xfrm>
        </p:grpSpPr>
        <p:sp>
          <p:nvSpPr>
            <p:cNvPr id="175" name=""/>
            <p:cNvSpPr/>
            <p:nvPr/>
          </p:nvSpPr>
          <p:spPr>
            <a:xfrm>
              <a:off x="1447920" y="4191120"/>
              <a:ext cx="64764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41760" y="4191120"/>
              <a:ext cx="64764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95560" y="3370320"/>
            <a:ext cx="1941480" cy="304920"/>
            <a:chOff x="2095560" y="3370320"/>
            <a:chExt cx="1941480" cy="304920"/>
          </a:xfrm>
        </p:grpSpPr>
        <p:sp>
          <p:nvSpPr>
            <p:cNvPr id="178" name=""/>
            <p:cNvSpPr/>
            <p:nvPr/>
          </p:nvSpPr>
          <p:spPr>
            <a:xfrm>
              <a:off x="2095560" y="3370320"/>
              <a:ext cx="64764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89400" y="3370320"/>
              <a:ext cx="64764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447920" y="2590920"/>
            <a:ext cx="259056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95560" y="4191120"/>
            <a:ext cx="1941480" cy="304560"/>
            <a:chOff x="2095560" y="4191120"/>
            <a:chExt cx="1941480" cy="304560"/>
          </a:xfrm>
        </p:grpSpPr>
        <p:sp>
          <p:nvSpPr>
            <p:cNvPr id="182" name=""/>
            <p:cNvSpPr/>
            <p:nvPr/>
          </p:nvSpPr>
          <p:spPr>
            <a:xfrm>
              <a:off x="2095560" y="4191120"/>
              <a:ext cx="647640" cy="30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89400" y="4191120"/>
              <a:ext cx="647640" cy="30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44080" y="502920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ukturgröße hängt von Lich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7440" y="2743200"/>
            <a:ext cx="32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öntgen Lithogra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lektronen/Ionen-Strahl Lithogra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kussierter Ionenstr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lbstorganisation von Teil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4240" y="502920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hr aufw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6760" y="121932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er induzierte Proz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54760" y="19051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 strukturiert Material di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25080" y="4952880"/>
            <a:ext cx="4829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ein einziger Schritt pro Strukt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 großflächige Strukturierung zeitaufwe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2819520" y="1066680"/>
            <a:ext cx="2819520" cy="1914480"/>
          </a:xfrm>
          <a:prstGeom prst="rect">
            <a:avLst/>
          </a:prstGeom>
          <a:ln w="0">
            <a:noFill/>
          </a:ln>
        </p:spPr>
      </p:pic>
      <p:pic>
        <p:nvPicPr>
          <p:cNvPr id="192" name="bleistift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2666880" cy="1643040"/>
          </a:xfrm>
          <a:prstGeom prst="rect">
            <a:avLst/>
          </a:prstGeom>
          <a:ln w="0">
            <a:noFill/>
          </a:ln>
        </p:spPr>
      </p:pic>
      <p:pic>
        <p:nvPicPr>
          <p:cNvPr id="193" name="laserstift" descr=""/>
          <p:cNvPicPr/>
          <p:nvPr/>
        </p:nvPicPr>
        <p:blipFill>
          <a:blip r:embed="rId4"/>
          <a:stretch/>
        </p:blipFill>
        <p:spPr>
          <a:xfrm>
            <a:off x="4114800" y="2514600"/>
            <a:ext cx="39625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000" y="129528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 geht es schne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1360" y="495288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bündelt Licht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ennpun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linse2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1828800" cy="1806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7400" y="19051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e Lins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2320" y="190512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 Linsengitt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0920" y="4952880"/>
            <a:ext cx="26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bündelt Licht in v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ennpun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76920" y="2362320"/>
            <a:ext cx="1447560" cy="2590560"/>
            <a:chOff x="4876920" y="2362320"/>
            <a:chExt cx="1447560" cy="2590560"/>
          </a:xfrm>
        </p:grpSpPr>
        <p:sp>
          <p:nvSpPr>
            <p:cNvPr id="202" name=""/>
            <p:cNvSpPr/>
            <p:nvPr/>
          </p:nvSpPr>
          <p:spPr>
            <a:xfrm>
              <a:off x="4876920" y="2362320"/>
              <a:ext cx="144756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410080" y="2400120"/>
              <a:ext cx="429840" cy="2513160"/>
              <a:chOff x="5410080" y="2400120"/>
              <a:chExt cx="429840" cy="25131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5410080" y="2400120"/>
                <a:ext cx="429840" cy="1256400"/>
                <a:chOff x="5410080" y="2400120"/>
                <a:chExt cx="429840" cy="12564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5410080" y="2400120"/>
                  <a:ext cx="429840" cy="628200"/>
                  <a:chOff x="5410080" y="2400120"/>
                  <a:chExt cx="429840" cy="628200"/>
                </a:xfrm>
              </p:grpSpPr>
              <p:pic>
                <p:nvPicPr>
                  <p:cNvPr id="206" name="linse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8641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" name="linse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7093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" name="linse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25545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" name="linse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001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410080" y="3028320"/>
                  <a:ext cx="429840" cy="628200"/>
                  <a:chOff x="5410080" y="3028320"/>
                  <a:chExt cx="429840" cy="628200"/>
                </a:xfrm>
              </p:grpSpPr>
              <p:pic>
                <p:nvPicPr>
                  <p:cNvPr id="211" name="linse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34923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" name="linse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3375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" name="linse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318276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" name="linse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0283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5410080" y="3656880"/>
                <a:ext cx="429840" cy="1256400"/>
                <a:chOff x="5410080" y="3656880"/>
                <a:chExt cx="429840" cy="125640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5410080" y="3656880"/>
                  <a:ext cx="429840" cy="628200"/>
                  <a:chOff x="5410080" y="3656880"/>
                  <a:chExt cx="429840" cy="628200"/>
                </a:xfrm>
              </p:grpSpPr>
              <p:pic>
                <p:nvPicPr>
                  <p:cNvPr id="217" name="linse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0080" y="41209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8" name="linse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9661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9" name="linse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10080" y="38113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0" name="linse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365688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5410080" y="4285080"/>
                  <a:ext cx="429840" cy="628200"/>
                  <a:chOff x="5410080" y="4285080"/>
                  <a:chExt cx="429840" cy="628200"/>
                </a:xfrm>
              </p:grpSpPr>
              <p:pic>
                <p:nvPicPr>
                  <p:cNvPr id="222" name="linse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47491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3" name="linse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45943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4" name="linse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10080" y="443952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5" name="linse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4285080"/>
                    <a:ext cx="429840" cy="1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pic>
        <p:nvPicPr>
          <p:cNvPr id="226" name="large_lensarray2" descr=""/>
          <p:cNvPicPr/>
          <p:nvPr/>
        </p:nvPicPr>
        <p:blipFill>
          <a:blip r:embed="rId19"/>
          <a:srcRect l="0" t="0" r="26570" b="1450"/>
          <a:stretch/>
        </p:blipFill>
        <p:spPr>
          <a:xfrm>
            <a:off x="6553080" y="2362320"/>
            <a:ext cx="1447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880" y="12952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krokugel als Li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2692440"/>
                <a:ext cx="490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648320" y="2743200"/>
            <a:ext cx="2864520" cy="1802880"/>
            <a:chOff x="4648320" y="2743200"/>
            <a:chExt cx="2864520" cy="1802880"/>
          </a:xfrm>
        </p:grpSpPr>
        <p:sp>
          <p:nvSpPr>
            <p:cNvPr id="231" name=""/>
            <p:cNvSpPr/>
            <p:nvPr/>
          </p:nvSpPr>
          <p:spPr>
            <a:xfrm>
              <a:off x="5763600" y="4299840"/>
              <a:ext cx="3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648320" y="3234600"/>
              <a:ext cx="2864520" cy="1095840"/>
              <a:chOff x="4648320" y="3234600"/>
              <a:chExt cx="2864520" cy="1095840"/>
            </a:xfrm>
          </p:grpSpPr>
          <p:cxnSp>
            <p:nvCxnSpPr>
              <p:cNvPr id="233" name=""/>
              <p:cNvCxnSpPr>
                <a:stCxn id="234" idx="1"/>
              </p:cNvCxnSpPr>
              <p:nvPr/>
            </p:nvCxnSpPr>
            <p:spPr>
              <a:xfrm>
                <a:off x="7210440" y="3761640"/>
                <a:ext cx="302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</p:cxnSp>
          <p:sp>
            <p:nvSpPr>
              <p:cNvPr id="235" name=""/>
              <p:cNvSpPr/>
              <p:nvPr/>
            </p:nvSpPr>
            <p:spPr>
              <a:xfrm rot="5400000">
                <a:off x="5466960" y="3347280"/>
                <a:ext cx="819360" cy="810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77400" y="4330440"/>
                <a:ext cx="80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8320" y="3552840"/>
                <a:ext cx="125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3657240"/>
                <a:ext cx="125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48320" y="3762000"/>
                <a:ext cx="256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48320" y="3865320"/>
                <a:ext cx="125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48320" y="3969720"/>
                <a:ext cx="125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2" name=""/>
              <p:cNvCxnSpPr>
                <a:stCxn id="237" idx="0"/>
                <a:endCxn id="239" idx="0"/>
              </p:cNvCxnSpPr>
              <p:nvPr/>
            </p:nvCxnSpPr>
            <p:spPr>
              <a:xfrm>
                <a:off x="5905440" y="3552840"/>
                <a:ext cx="1306080" cy="20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3" name=""/>
              <p:cNvCxnSpPr>
                <a:stCxn id="238" idx="0"/>
                <a:endCxn id="239" idx="1"/>
              </p:cNvCxnSpPr>
              <p:nvPr/>
            </p:nvCxnSpPr>
            <p:spPr>
              <a:xfrm>
                <a:off x="5905440" y="3657240"/>
                <a:ext cx="1306080" cy="105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4" name=""/>
              <p:cNvCxnSpPr>
                <a:stCxn id="240" idx="0"/>
                <a:endCxn id="239" idx="1"/>
              </p:cNvCxnSpPr>
              <p:nvPr/>
            </p:nvCxnSpPr>
            <p:spPr>
              <a:xfrm flipV="1">
                <a:off x="5905440" y="3761640"/>
                <a:ext cx="1306080" cy="103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5" name=""/>
              <p:cNvCxnSpPr>
                <a:stCxn id="241" idx="0"/>
                <a:endCxn id="239" idx="1"/>
              </p:cNvCxnSpPr>
              <p:nvPr/>
            </p:nvCxnSpPr>
            <p:spPr>
              <a:xfrm flipV="1">
                <a:off x="5905440" y="3761280"/>
                <a:ext cx="1306080" cy="20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46" name=""/>
              <p:cNvSpPr/>
              <p:nvPr/>
            </p:nvSpPr>
            <p:spPr>
              <a:xfrm>
                <a:off x="5879160" y="3234600"/>
                <a:ext cx="130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856120" y="2743200"/>
              <a:ext cx="30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413600" y="190512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Makroskopische) Kugel-Li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843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4320" y="518148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krokugel bündelt 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19051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dec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12200" y="251460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aser-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52600" y="342900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krokugeln = Verschmutz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12920" y="428796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öcher in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4648320"/>
            <a:ext cx="10670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09880"/>
            <a:ext cx="10670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895480"/>
            <a:ext cx="10670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66680" y="1066680"/>
            <a:ext cx="7086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1840" y="121932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so Kugel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08040" y="2759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19200" y="2793960"/>
            <a:ext cx="27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 = natürlich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8195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0640" y="4648320"/>
            <a:ext cx="24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 kann sie ka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8960" y="279396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eicht“ herstel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5520" y="2147760"/>
            <a:ext cx="23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 bündelt 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0480" y="344340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le Größen :  ~ 30 nm .... 10 µ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0640" y="40384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bsta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jupiter" descr=""/>
          <p:cNvPicPr/>
          <p:nvPr/>
        </p:nvPicPr>
        <p:blipFill>
          <a:blip r:embed="rId2"/>
          <a:srcRect l="16558" t="18000" r="19133" b="20665"/>
          <a:stretch/>
        </p:blipFill>
        <p:spPr>
          <a:xfrm>
            <a:off x="6248520" y="12193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269" name="seifenblase" descr=""/>
          <p:cNvPicPr/>
          <p:nvPr/>
        </p:nvPicPr>
        <p:blipFill>
          <a:blip r:embed="rId3"/>
          <a:stretch/>
        </p:blipFill>
        <p:spPr>
          <a:xfrm>
            <a:off x="5105520" y="3886200"/>
            <a:ext cx="20779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10:06Z</dcterms:created>
  <dc:creator>Piglmayer</dc:creator>
  <dc:description/>
  <dc:language>en-US</dc:language>
  <cp:lastModifiedBy>Piglmayer</cp:lastModifiedBy>
  <dcterms:modified xsi:type="dcterms:W3CDTF">2004-04-13T14:56:12Z</dcterms:modified>
  <cp:revision>100</cp:revision>
  <dc:subject/>
  <dc:title>Kein Folientitel</dc:title>
</cp:coreProperties>
</file>