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16.png" ContentType="image/png"/>
  <Override PartName="/ppt/media/image15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F8C-5A9F-4573-9E4A-4D9AD438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9B3-8FC1-4717-99D7-6F7E853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B69-C355-4345-B2C2-D79BE1B9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1E-1B5F-4C21-9212-C673BFE6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DA4-D1DA-4B5B-80FC-D0E6F84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816-838B-4CA8-9AEF-9AF831C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267-F3A0-4E4E-B539-E50733E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B2E-1A61-4228-87A0-0B15B72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CE9-6867-4B40-B055-C3E4EF6C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4DF-4167-4DBC-BCD6-23EFF82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466-1F4C-4723-B9F7-E3FFDDE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AF3-5260-4581-A79C-8D65AB7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43D2-9166-423D-A554-C24FDB88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360" y="1162080"/>
            <a:ext cx="8208720" cy="5473440"/>
            <a:chOff x="468360" y="1162080"/>
            <a:chExt cx="8208720" cy="5473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68360" y="1162080"/>
              <a:ext cx="820872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2656800" y="2758680"/>
              <a:ext cx="4882320" cy="38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52713" t="40859" r="30058" b="29703"/>
            <a:stretch/>
          </p:blipFill>
          <p:spPr>
            <a:xfrm>
              <a:off x="4925160" y="3653280"/>
              <a:ext cx="1518120" cy="147312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4736520" y="3459240"/>
              <a:ext cx="1901160" cy="1845000"/>
            </a:xfrm>
            <a:prstGeom prst="donut">
              <a:avLst>
                <a:gd name="adj" fmla="val 10416"/>
              </a:avLst>
            </a:prstGeom>
            <a:solidFill>
              <a:srgbClr val="c0c0c0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43640" y="3330360"/>
              <a:ext cx="2029680" cy="2091960"/>
            </a:xfrm>
            <a:prstGeom prst="donut">
              <a:avLst>
                <a:gd name="adj" fmla="val 7583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14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Mit leuchtenden Zellen</a:t>
            </a:r>
            <a:br>
              <a:rPr sz="5000"/>
            </a:b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 Allergien auf der Spu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2631" t="3795" r="1562" b="1811"/>
          <a:stretch/>
        </p:blipFill>
        <p:spPr>
          <a:xfrm>
            <a:off x="1900080" y="50760"/>
            <a:ext cx="5496120" cy="676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87040" y="4154400"/>
            <a:ext cx="577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ernard MT Condensed"/>
              </a:rPr>
              <a:t>Calcium Transport Protein 1 (CaT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5920" y="4900680"/>
            <a:ext cx="56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Wird verdächtigt für Calcium-Einst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in Mastzellen verantwortlich zu se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184464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74720" y="1890720"/>
            <a:ext cx="2262240" cy="2225520"/>
            <a:chOff x="3474720" y="1890720"/>
            <a:chExt cx="2262240" cy="2225520"/>
          </a:xfrm>
        </p:grpSpPr>
        <p:grpSp>
          <p:nvGrpSpPr>
            <p:cNvPr id="157" name=""/>
            <p:cNvGrpSpPr/>
            <p:nvPr/>
          </p:nvGrpSpPr>
          <p:grpSpPr>
            <a:xfrm>
              <a:off x="3474720" y="2738520"/>
              <a:ext cx="693720" cy="1237680"/>
              <a:chOff x="3474720" y="2738520"/>
              <a:chExt cx="693720" cy="1237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548160" y="2956320"/>
                <a:ext cx="620280" cy="846360"/>
                <a:chOff x="3548160" y="2956320"/>
                <a:chExt cx="620280" cy="84636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3548160" y="3101040"/>
                  <a:ext cx="570240" cy="701640"/>
                  <a:chOff x="3548160" y="3101040"/>
                  <a:chExt cx="570240" cy="70164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3548160" y="3412440"/>
                    <a:ext cx="384480" cy="390240"/>
                    <a:chOff x="3548160" y="3412440"/>
                    <a:chExt cx="384480" cy="39024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3548160" y="3412440"/>
                      <a:ext cx="173160" cy="239760"/>
                      <a:chOff x="3548160" y="3412440"/>
                      <a:chExt cx="173160" cy="23976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3548160" y="3506760"/>
                        <a:ext cx="144720" cy="145440"/>
                        <a:chOff x="3548160" y="3506760"/>
                        <a:chExt cx="144720" cy="1454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rot="17473200">
                          <a:off x="3636000" y="3594960"/>
                          <a:ext cx="4788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rot="17473200">
                          <a:off x="3592800" y="3561480"/>
                          <a:ext cx="4824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rot="17473200">
                          <a:off x="3556440" y="3512520"/>
                          <a:ext cx="48240" cy="514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3549960" y="3412440"/>
                        <a:ext cx="171360" cy="111600"/>
                        <a:chOff x="3549960" y="3412440"/>
                        <a:chExt cx="171360" cy="11160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rot="2389200">
                          <a:off x="3558960" y="3465360"/>
                          <a:ext cx="5112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rot="2389200">
                          <a:off x="3603240" y="3438720"/>
                          <a:ext cx="5148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rot="2389200">
                          <a:off x="3660120" y="3423240"/>
                          <a:ext cx="51480" cy="4824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240" bIns="-12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3699000" y="3435480"/>
                      <a:ext cx="155160" cy="103320"/>
                      <a:chOff x="3699000" y="3435480"/>
                      <a:chExt cx="155160" cy="103320"/>
                    </a:xfrm>
                  </p:grpSpPr>
                  <p:sp>
                    <p:nvSpPr>
                      <p:cNvPr id="171" name=""/>
                      <p:cNvSpPr/>
                      <p:nvPr/>
                    </p:nvSpPr>
                    <p:spPr>
                      <a:xfrm rot="5555400">
                        <a:off x="3701520" y="343476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 rot="5555400">
                        <a:off x="3753720" y="345312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 rot="5555400">
                        <a:off x="3803040" y="348768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3652920" y="3604680"/>
                      <a:ext cx="279720" cy="198000"/>
                      <a:chOff x="3652920" y="3604680"/>
                      <a:chExt cx="279720" cy="198000"/>
                    </a:xfrm>
                  </p:grpSpPr>
                  <p:grpSp>
                    <p:nvGrpSpPr>
                      <p:cNvPr id="175" name=""/>
                      <p:cNvGrpSpPr/>
                      <p:nvPr/>
                    </p:nvGrpSpPr>
                    <p:grpSpPr>
                      <a:xfrm>
                        <a:off x="3652920" y="3604680"/>
                        <a:ext cx="161640" cy="90720"/>
                        <a:chOff x="3652920" y="3604680"/>
                        <a:chExt cx="161640" cy="90720"/>
                      </a:xfrm>
                    </p:grpSpPr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rot="4755600">
                          <a:off x="3655440" y="3610080"/>
                          <a:ext cx="5112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rot="4755600">
                          <a:off x="3706560" y="3617640"/>
                          <a:ext cx="5148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rot="4755600">
                          <a:off x="3759840" y="3641400"/>
                          <a:ext cx="51480" cy="4824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240" bIns="-12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9" name=""/>
                      <p:cNvGrpSpPr/>
                      <p:nvPr/>
                    </p:nvGrpSpPr>
                    <p:grpSpPr>
                      <a:xfrm>
                        <a:off x="3789360" y="3654000"/>
                        <a:ext cx="143280" cy="148680"/>
                        <a:chOff x="3789360" y="3654000"/>
                        <a:chExt cx="143280" cy="148680"/>
                      </a:xfrm>
                    </p:grpSpPr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rot="6765600">
                          <a:off x="3798000" y="3660120"/>
                          <a:ext cx="4788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rot="6765600">
                          <a:off x="3839760" y="3695760"/>
                          <a:ext cx="4824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rot="6765600">
                          <a:off x="3875400" y="3744360"/>
                          <a:ext cx="48240" cy="514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3681000" y="3259080"/>
                    <a:ext cx="437400" cy="318600"/>
                    <a:chOff x="3681000" y="3259080"/>
                    <a:chExt cx="437400" cy="318600"/>
                  </a:xfrm>
                </p:grpSpPr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3950640" y="3344040"/>
                      <a:ext cx="167760" cy="233640"/>
                      <a:chOff x="3950640" y="3344040"/>
                      <a:chExt cx="167760" cy="233640"/>
                    </a:xfrm>
                  </p:grpSpPr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3950640" y="3344040"/>
                        <a:ext cx="153720" cy="113400"/>
                        <a:chOff x="3950640" y="3344040"/>
                        <a:chExt cx="153720" cy="113400"/>
                      </a:xfrm>
                    </p:grpSpPr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rot="5794200">
                          <a:off x="3954600" y="3344760"/>
                          <a:ext cx="4788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rot="5794200">
                          <a:off x="4004640" y="3367080"/>
                          <a:ext cx="4824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rot="5794200">
                          <a:off x="4051800" y="3404520"/>
                          <a:ext cx="48240" cy="514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3963960" y="3446280"/>
                        <a:ext cx="154440" cy="131400"/>
                        <a:chOff x="3963960" y="3446280"/>
                        <a:chExt cx="154440" cy="13140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rot="12310800">
                          <a:off x="4059360" y="3454920"/>
                          <a:ext cx="5112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rot="12310800">
                          <a:off x="4023000" y="3491640"/>
                          <a:ext cx="5148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rot="12310800">
                          <a:off x="3971520" y="3520440"/>
                          <a:ext cx="51480" cy="4824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240" bIns="-12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13840" y="3487680"/>
                      <a:ext cx="172080" cy="83520"/>
                      <a:chOff x="3813840" y="3487680"/>
                      <a:chExt cx="172080" cy="8352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 rot="15476400">
                        <a:off x="3931920" y="351684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 rot="15476400">
                        <a:off x="3876840" y="351216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 rot="15476400">
                        <a:off x="3819600" y="349092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7" name=""/>
                    <p:cNvGrpSpPr/>
                    <p:nvPr/>
                  </p:nvGrpSpPr>
                  <p:grpSpPr>
                    <a:xfrm>
                      <a:off x="3681000" y="3259080"/>
                      <a:ext cx="306360" cy="143640"/>
                      <a:chOff x="3681000" y="3259080"/>
                      <a:chExt cx="306360" cy="143640"/>
                    </a:xfrm>
                  </p:grpSpPr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3812760" y="3325320"/>
                        <a:ext cx="174600" cy="77400"/>
                        <a:chOff x="3812760" y="3325320"/>
                        <a:chExt cx="174600" cy="7740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rot="14677200">
                          <a:off x="3929040" y="3339000"/>
                          <a:ext cx="5112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rot="14677200">
                          <a:off x="3877560" y="3345120"/>
                          <a:ext cx="51480" cy="478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600" bIns="-126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rot="14677200">
                          <a:off x="3819600" y="3334680"/>
                          <a:ext cx="51480" cy="4824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2240" bIns="-12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3681000" y="3259080"/>
                        <a:ext cx="153360" cy="116640"/>
                        <a:chOff x="3681000" y="3259080"/>
                        <a:chExt cx="153360" cy="11664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rot="16687200">
                          <a:off x="3781800" y="3322800"/>
                          <a:ext cx="4788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rot="16687200">
                          <a:off x="3731400" y="3299400"/>
                          <a:ext cx="48240" cy="511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080" bIns="-10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rot="16687200">
                          <a:off x="3685680" y="3260880"/>
                          <a:ext cx="48240" cy="5148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3640320" y="3101040"/>
                    <a:ext cx="223920" cy="187200"/>
                    <a:chOff x="3640320" y="3101040"/>
                    <a:chExt cx="223920" cy="187200"/>
                  </a:xfrm>
                </p:grpSpPr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3640320" y="3124440"/>
                      <a:ext cx="83880" cy="163800"/>
                      <a:chOff x="3640320" y="3124440"/>
                      <a:chExt cx="83880" cy="163800"/>
                    </a:xfrm>
                  </p:grpSpPr>
                  <p:sp>
                    <p:nvSpPr>
                      <p:cNvPr id="208" name=""/>
                      <p:cNvSpPr/>
                      <p:nvPr/>
                    </p:nvSpPr>
                    <p:spPr>
                      <a:xfrm rot="20579400">
                        <a:off x="3645720" y="3235680"/>
                        <a:ext cx="51120" cy="460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 rot="20579400">
                        <a:off x="3647880" y="3185640"/>
                        <a:ext cx="51480" cy="460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 rot="20579400">
                        <a:off x="3666960" y="3130920"/>
                        <a:ext cx="51480" cy="464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040" bIns="-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3709800" y="3101040"/>
                      <a:ext cx="154440" cy="97200"/>
                      <a:chOff x="3709800" y="3101040"/>
                      <a:chExt cx="154440" cy="97200"/>
                    </a:xfrm>
                  </p:grpSpPr>
                  <p:sp>
                    <p:nvSpPr>
                      <p:cNvPr id="212" name=""/>
                      <p:cNvSpPr/>
                      <p:nvPr/>
                    </p:nvSpPr>
                    <p:spPr>
                      <a:xfrm rot="5494800">
                        <a:off x="3712680" y="3099240"/>
                        <a:ext cx="460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 rot="5494800">
                        <a:off x="3764160" y="3116160"/>
                        <a:ext cx="464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 rot="5494800">
                        <a:off x="3814560" y="3148560"/>
                        <a:ext cx="464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732480" y="2956320"/>
                  <a:ext cx="435960" cy="321480"/>
                  <a:chOff x="3732480" y="2956320"/>
                  <a:chExt cx="435960" cy="32148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4001400" y="3043440"/>
                    <a:ext cx="167040" cy="234360"/>
                    <a:chOff x="4001400" y="3043440"/>
                    <a:chExt cx="167040" cy="234360"/>
                  </a:xfrm>
                </p:grpSpPr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001400" y="3043440"/>
                      <a:ext cx="153720" cy="114840"/>
                      <a:chOff x="4001400" y="3043440"/>
                      <a:chExt cx="153720" cy="11484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rot="5828400">
                        <a:off x="4005360" y="304488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rot="5828400">
                        <a:off x="4055400" y="306720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 rot="5828400">
                        <a:off x="4102200" y="310536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4012920" y="3147120"/>
                      <a:ext cx="155520" cy="130680"/>
                      <a:chOff x="4012920" y="3147120"/>
                      <a:chExt cx="155520" cy="130680"/>
                    </a:xfrm>
                  </p:grpSpPr>
                  <p:sp>
                    <p:nvSpPr>
                      <p:cNvPr id="222" name=""/>
                      <p:cNvSpPr/>
                      <p:nvPr/>
                    </p:nvSpPr>
                    <p:spPr>
                      <a:xfrm rot="12344400">
                        <a:off x="4109040" y="315540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2344400">
                        <a:off x="4071960" y="319212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2344400">
                        <a:off x="4020840" y="322056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3863160" y="3186720"/>
                    <a:ext cx="171360" cy="84240"/>
                    <a:chOff x="3863160" y="3186720"/>
                    <a:chExt cx="171360" cy="842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rot="15510600">
                      <a:off x="3980520" y="321660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15510600">
                      <a:off x="3926160" y="321156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rot="15510600">
                      <a:off x="3868920" y="318960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3732480" y="2956320"/>
                    <a:ext cx="306360" cy="145080"/>
                    <a:chOff x="3732480" y="2956320"/>
                    <a:chExt cx="306360" cy="145080"/>
                  </a:xfrm>
                </p:grpSpPr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3863880" y="3024000"/>
                      <a:ext cx="174960" cy="77400"/>
                      <a:chOff x="3863880" y="3024000"/>
                      <a:chExt cx="174960" cy="7740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 rot="14710800">
                        <a:off x="3980520" y="303876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 rot="14710800">
                        <a:off x="3928320" y="304380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 rot="14710800">
                        <a:off x="3870720" y="303300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3732480" y="2956320"/>
                      <a:ext cx="153360" cy="117720"/>
                      <a:chOff x="3732480" y="2956320"/>
                      <a:chExt cx="153360" cy="11772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 rot="16721400">
                        <a:off x="3832920" y="302076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 rot="16721400">
                        <a:off x="3783240" y="299736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 rot="16721400">
                        <a:off x="3737160" y="295812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8" name=""/>
              <p:cNvGrpSpPr/>
              <p:nvPr/>
            </p:nvGrpSpPr>
            <p:grpSpPr>
              <a:xfrm>
                <a:off x="3532320" y="2738520"/>
                <a:ext cx="524520" cy="283320"/>
                <a:chOff x="3532320" y="2738520"/>
                <a:chExt cx="524520" cy="2833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532320" y="2738520"/>
                  <a:ext cx="224280" cy="210600"/>
                  <a:chOff x="3532320" y="2738520"/>
                  <a:chExt cx="224280" cy="21060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559680" y="2738520"/>
                    <a:ext cx="196920" cy="77400"/>
                    <a:chOff x="3559680" y="2738520"/>
                    <a:chExt cx="196920" cy="774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V="1" rot="6848400">
                      <a:off x="3696120" y="2752920"/>
                      <a:ext cx="48960" cy="56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V="1" rot="6848400">
                      <a:off x="3636360" y="2743560"/>
                      <a:ext cx="49320" cy="565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V="1" rot="6848400">
                      <a:off x="3570840" y="2751120"/>
                      <a:ext cx="49320" cy="56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3532320" y="2791080"/>
                    <a:ext cx="108000" cy="158040"/>
                    <a:chOff x="3532320" y="2791080"/>
                    <a:chExt cx="108000" cy="1580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flipV="1" rot="333000">
                      <a:off x="3534480" y="2793600"/>
                      <a:ext cx="56520" cy="4896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 rot="333000">
                      <a:off x="3547800" y="2845080"/>
                      <a:ext cx="56880" cy="4896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 rot="333000">
                      <a:off x="3581280" y="2896920"/>
                      <a:ext cx="56880" cy="493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614760" y="2905920"/>
                  <a:ext cx="192240" cy="115920"/>
                  <a:chOff x="3614760" y="2905920"/>
                  <a:chExt cx="192240" cy="1159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 rot="18766200">
                    <a:off x="3627360" y="2914560"/>
                    <a:ext cx="48960" cy="561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 rot="18766200">
                    <a:off x="3681000" y="2941560"/>
                    <a:ext cx="49320" cy="561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 rot="18766200">
                    <a:off x="3744360" y="2955600"/>
                    <a:ext cx="49320" cy="56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712320" y="2758680"/>
                  <a:ext cx="344520" cy="136440"/>
                  <a:chOff x="3712320" y="2758680"/>
                  <a:chExt cx="344520" cy="13644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3712320" y="2758680"/>
                    <a:ext cx="176760" cy="122760"/>
                    <a:chOff x="3712320" y="2758680"/>
                    <a:chExt cx="176760" cy="12276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flipV="1" rot="19566600">
                      <a:off x="3720960" y="2770200"/>
                      <a:ext cx="56520" cy="486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V="1" rot="19566600">
                      <a:off x="3764160" y="2800440"/>
                      <a:ext cx="56880" cy="4896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V="1" rot="19566600">
                      <a:off x="3823200" y="2820240"/>
                      <a:ext cx="56880" cy="493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3860640" y="2819160"/>
                    <a:ext cx="196200" cy="75960"/>
                    <a:chOff x="3860640" y="2819160"/>
                    <a:chExt cx="196200" cy="759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V="1" rot="17556600">
                      <a:off x="3871440" y="2825640"/>
                      <a:ext cx="48960" cy="565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V="1" rot="17556600">
                      <a:off x="3931560" y="2832840"/>
                      <a:ext cx="49320" cy="565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V="1" rot="17556600">
                      <a:off x="3996360" y="2824200"/>
                      <a:ext cx="49320" cy="565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3474720" y="3710160"/>
                <a:ext cx="480960" cy="266040"/>
                <a:chOff x="3474720" y="3710160"/>
                <a:chExt cx="480960" cy="2660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474720" y="3710160"/>
                  <a:ext cx="205560" cy="206280"/>
                  <a:chOff x="3474720" y="3710160"/>
                  <a:chExt cx="205560" cy="20628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499920" y="3710160"/>
                    <a:ext cx="180360" cy="74160"/>
                    <a:chOff x="3499920" y="3710160"/>
                    <a:chExt cx="180360" cy="7416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V="1" rot="6757800">
                      <a:off x="3623400" y="372132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V="1" rot="6757800">
                      <a:off x="3568320" y="371628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V="1" rot="6757800">
                      <a:off x="3508920" y="372600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474720" y="3764520"/>
                    <a:ext cx="98280" cy="151920"/>
                    <a:chOff x="3474720" y="3764520"/>
                    <a:chExt cx="98280" cy="1519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V="1" rot="242400">
                      <a:off x="3476160" y="3765600"/>
                      <a:ext cx="5112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V="1" rot="242400">
                      <a:off x="3489480" y="3815280"/>
                      <a:ext cx="5148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V="1" rot="242400">
                      <a:off x="3519720" y="3866040"/>
                      <a:ext cx="51480" cy="48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3548520" y="3873960"/>
                  <a:ext cx="180000" cy="102240"/>
                  <a:chOff x="3548520" y="3873960"/>
                  <a:chExt cx="180000" cy="1022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V="1" rot="18676200">
                    <a:off x="3559320" y="388296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 rot="18676200">
                    <a:off x="3609000" y="3906360"/>
                    <a:ext cx="48240" cy="507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V="1" rot="18676200">
                    <a:off x="3669120" y="391572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636720" y="3718080"/>
                  <a:ext cx="318960" cy="130320"/>
                  <a:chOff x="3636720" y="3718080"/>
                  <a:chExt cx="318960" cy="130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3636720" y="3718080"/>
                    <a:ext cx="167760" cy="118800"/>
                    <a:chOff x="3636720" y="3718080"/>
                    <a:chExt cx="167760" cy="11880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flipV="1" rot="19476000">
                      <a:off x="3645720" y="3727800"/>
                      <a:ext cx="5112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 rot="19476000">
                      <a:off x="3687840" y="3758760"/>
                      <a:ext cx="5148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 rot="19476000">
                      <a:off x="3743640" y="3778200"/>
                      <a:ext cx="51480" cy="48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3776400" y="3773880"/>
                    <a:ext cx="179280" cy="74520"/>
                    <a:chOff x="3776400" y="3773880"/>
                    <a:chExt cx="179280" cy="7452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flipV="1" rot="17466000">
                      <a:off x="3784680" y="378648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 rot="17466000">
                      <a:off x="3839040" y="379116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 rot="17466000">
                      <a:off x="3898800" y="378000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84" name=""/>
              <p:cNvSpPr/>
              <p:nvPr/>
            </p:nvSpPr>
            <p:spPr>
              <a:xfrm rot="11082000">
                <a:off x="3918960" y="3741840"/>
                <a:ext cx="51120" cy="48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110200" y="3289680"/>
              <a:ext cx="585000" cy="826560"/>
              <a:chOff x="5110200" y="3289680"/>
              <a:chExt cx="585000" cy="8265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131440" y="3289680"/>
                <a:ext cx="563760" cy="682560"/>
                <a:chOff x="5131440" y="3289680"/>
                <a:chExt cx="563760" cy="6825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5289480" y="3289680"/>
                  <a:ext cx="405720" cy="366840"/>
                  <a:chOff x="5289480" y="3289680"/>
                  <a:chExt cx="405720" cy="36684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529240" y="3416760"/>
                    <a:ext cx="165960" cy="239760"/>
                    <a:chOff x="5529240" y="3416760"/>
                    <a:chExt cx="165960" cy="239760"/>
                  </a:xfrm>
                </p:grpSpPr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5542200" y="3416760"/>
                      <a:ext cx="149040" cy="135000"/>
                      <a:chOff x="5542200" y="3416760"/>
                      <a:chExt cx="149040" cy="13500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 rot="6348600">
                        <a:off x="5549400" y="342108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rot="6348600">
                        <a:off x="5595120" y="345096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rot="6348600">
                        <a:off x="5635440" y="349560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5529240" y="3536280"/>
                      <a:ext cx="165960" cy="120240"/>
                      <a:chOff x="5529240" y="3536280"/>
                      <a:chExt cx="165960" cy="12024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 rot="12864600">
                        <a:off x="5635080" y="354636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rot="12864600">
                        <a:off x="5593320" y="357732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 rot="12864600">
                        <a:off x="5538240" y="359784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389920" y="3544200"/>
                    <a:ext cx="159840" cy="93600"/>
                    <a:chOff x="5389920" y="3544200"/>
                    <a:chExt cx="159840" cy="93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6030800">
                      <a:off x="5499000" y="358704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6030800">
                      <a:off x="5445360" y="357336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030800">
                      <a:off x="5392800" y="354384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289480" y="3289680"/>
                    <a:ext cx="291600" cy="177120"/>
                    <a:chOff x="5289480" y="3289680"/>
                    <a:chExt cx="291600" cy="17712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5413320" y="3382560"/>
                      <a:ext cx="167760" cy="84240"/>
                      <a:chOff x="5413320" y="3382560"/>
                      <a:chExt cx="167760" cy="8424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 rot="15231600">
                        <a:off x="5525280" y="341136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 rot="15231600">
                        <a:off x="5473440" y="340884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rot="15231600">
                        <a:off x="5417640" y="338976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5289480" y="3289680"/>
                      <a:ext cx="147960" cy="137880"/>
                      <a:chOff x="5289480" y="3289680"/>
                      <a:chExt cx="147960" cy="13788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 rot="17241600">
                        <a:off x="5382000" y="337140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 rot="17241600">
                        <a:off x="5336640" y="334044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 rot="17241600">
                        <a:off x="5297040" y="329436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131440" y="3521520"/>
                  <a:ext cx="450720" cy="288000"/>
                  <a:chOff x="5131440" y="3521520"/>
                  <a:chExt cx="450720" cy="2880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131440" y="3522600"/>
                    <a:ext cx="174600" cy="227880"/>
                    <a:chOff x="5131440" y="3522600"/>
                    <a:chExt cx="174600" cy="227880"/>
                  </a:xfrm>
                </p:grpSpPr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5150880" y="3650760"/>
                      <a:ext cx="155160" cy="99720"/>
                      <a:chOff x="5150880" y="3650760"/>
                      <a:chExt cx="155160" cy="9972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 rot="16269600">
                        <a:off x="5255640" y="370008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 rot="16269600">
                        <a:off x="5203440" y="368280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 rot="16269600">
                        <a:off x="5152680" y="364932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5131440" y="3522600"/>
                      <a:ext cx="145800" cy="136800"/>
                      <a:chOff x="5131440" y="3522600"/>
                      <a:chExt cx="145800" cy="13680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 rot="1185600">
                        <a:off x="5137920" y="360432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 rot="1185600">
                        <a:off x="5170680" y="356400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 rot="1185600">
                        <a:off x="5218920" y="352980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255280" y="3521520"/>
                    <a:ext cx="176400" cy="77040"/>
                    <a:chOff x="5255280" y="3521520"/>
                    <a:chExt cx="176400" cy="7704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4351800">
                      <a:off x="5262480" y="352692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4351800">
                      <a:off x="5316840" y="352656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4351800">
                      <a:off x="5375520" y="354168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270760" y="3686040"/>
                    <a:ext cx="311400" cy="123480"/>
                    <a:chOff x="5270760" y="3686040"/>
                    <a:chExt cx="311400" cy="123480"/>
                  </a:xfrm>
                </p:grpSpPr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5270760" y="3686040"/>
                      <a:ext cx="176760" cy="79200"/>
                      <a:chOff x="5270760" y="3686040"/>
                      <a:chExt cx="176760" cy="7920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 rot="3552600">
                        <a:off x="5278680" y="3706920"/>
                        <a:ext cx="5112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 rot="3552600">
                        <a:off x="5328720" y="3696120"/>
                        <a:ext cx="51480" cy="478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rot="3552600">
                        <a:off x="5387760" y="3700440"/>
                        <a:ext cx="51480" cy="4824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5427360" y="3706560"/>
                      <a:ext cx="154800" cy="102960"/>
                      <a:chOff x="5427360" y="3706560"/>
                      <a:chExt cx="154800" cy="10296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 rot="5562600">
                        <a:off x="5429880" y="3706200"/>
                        <a:ext cx="4788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 rot="5562600">
                        <a:off x="5481360" y="3724560"/>
                        <a:ext cx="48240" cy="5112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 rot="5562600">
                        <a:off x="5531040" y="3758400"/>
                        <a:ext cx="48240" cy="51480"/>
                      </a:xfrm>
                      <a:prstGeom prst="ellipse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5411160" y="3777120"/>
                  <a:ext cx="219960" cy="195120"/>
                  <a:chOff x="5411160" y="3777120"/>
                  <a:chExt cx="219960" cy="19512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551920" y="3777120"/>
                    <a:ext cx="79200" cy="168840"/>
                    <a:chOff x="5551920" y="3777120"/>
                    <a:chExt cx="79200" cy="16884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9454800">
                      <a:off x="5570280" y="3784680"/>
                      <a:ext cx="51120" cy="460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9454800">
                      <a:off x="5572440" y="3835080"/>
                      <a:ext cx="51480" cy="460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rot="9454800">
                      <a:off x="5558400" y="3891240"/>
                      <a:ext cx="51480" cy="464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411160" y="3883320"/>
                    <a:ext cx="160920" cy="88920"/>
                    <a:chOff x="5411160" y="3883320"/>
                    <a:chExt cx="160920" cy="889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5970200">
                      <a:off x="5521680" y="3921840"/>
                      <a:ext cx="460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5970200">
                      <a:off x="5468400" y="3909600"/>
                      <a:ext cx="464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5970200">
                      <a:off x="5415120" y="3882240"/>
                      <a:ext cx="464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5110200" y="3825720"/>
                <a:ext cx="449280" cy="290520"/>
                <a:chOff x="5110200" y="3825720"/>
                <a:chExt cx="449280" cy="29052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5110200" y="3825720"/>
                  <a:ext cx="173520" cy="228600"/>
                  <a:chOff x="5110200" y="3825720"/>
                  <a:chExt cx="173520" cy="22860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128920" y="3953520"/>
                    <a:ext cx="154800" cy="100800"/>
                    <a:chOff x="5128920" y="3953520"/>
                    <a:chExt cx="154800" cy="10080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304400">
                      <a:off x="5233320" y="400392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304400">
                      <a:off x="5181120" y="398628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rot="16304400">
                      <a:off x="5131080" y="395244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110200" y="3825720"/>
                    <a:ext cx="146160" cy="136440"/>
                    <a:chOff x="5110200" y="3825720"/>
                    <a:chExt cx="146160" cy="1364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219800">
                      <a:off x="5116680" y="3906720"/>
                      <a:ext cx="5112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219800">
                      <a:off x="5149440" y="3866760"/>
                      <a:ext cx="5148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219800">
                      <a:off x="5198040" y="3832920"/>
                      <a:ext cx="51480" cy="48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234400" y="3825720"/>
                  <a:ext cx="176400" cy="77040"/>
                  <a:chOff x="5234400" y="3825720"/>
                  <a:chExt cx="176400" cy="770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4386600">
                    <a:off x="5241600" y="383040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4386600">
                    <a:off x="5296320" y="383040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4386600">
                    <a:off x="5355000" y="3846240"/>
                    <a:ext cx="48240" cy="514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5247720" y="3990600"/>
                  <a:ext cx="311760" cy="125640"/>
                  <a:chOff x="5247720" y="3990600"/>
                  <a:chExt cx="311760" cy="12564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247720" y="3990600"/>
                    <a:ext cx="177480" cy="78480"/>
                    <a:chOff x="5247720" y="3990600"/>
                    <a:chExt cx="177480" cy="78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3586200">
                      <a:off x="5255640" y="4010760"/>
                      <a:ext cx="5112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3586200">
                      <a:off x="5306760" y="4000680"/>
                      <a:ext cx="51480" cy="478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600" bIns="-12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3586200">
                      <a:off x="5365440" y="4005720"/>
                      <a:ext cx="51480" cy="48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404680" y="4011840"/>
                    <a:ext cx="154800" cy="104400"/>
                    <a:chOff x="5404680" y="4011840"/>
                    <a:chExt cx="154800" cy="1044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5596200">
                      <a:off x="5407200" y="4011480"/>
                      <a:ext cx="4788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5596200">
                      <a:off x="5458680" y="4029840"/>
                      <a:ext cx="48240" cy="5112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5596200">
                      <a:off x="5508000" y="4064760"/>
                      <a:ext cx="48240" cy="514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5" name=""/>
            <p:cNvGrpSpPr/>
            <p:nvPr/>
          </p:nvGrpSpPr>
          <p:grpSpPr>
            <a:xfrm>
              <a:off x="5258520" y="3095280"/>
              <a:ext cx="478440" cy="254520"/>
              <a:chOff x="5258520" y="3095280"/>
              <a:chExt cx="478440" cy="25452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5538600" y="3141360"/>
                <a:ext cx="198360" cy="207360"/>
                <a:chOff x="5538600" y="3141360"/>
                <a:chExt cx="198360" cy="2073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5538600" y="3272040"/>
                  <a:ext cx="176400" cy="76680"/>
                  <a:chOff x="5538600" y="3272040"/>
                  <a:chExt cx="176400" cy="76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 rot="17233800">
                    <a:off x="5545800" y="3292560"/>
                    <a:ext cx="47880" cy="507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V="1" rot="17233800">
                    <a:off x="5600520" y="329256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 rot="17233800">
                    <a:off x="5658840" y="3276360"/>
                    <a:ext cx="48240" cy="514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631120" y="3141360"/>
                  <a:ext cx="105840" cy="145080"/>
                  <a:chOff x="5631120" y="3141360"/>
                  <a:chExt cx="105840" cy="1450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V="1" rot="10717800">
                    <a:off x="5685120" y="3237840"/>
                    <a:ext cx="5112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V="1" rot="10717800">
                    <a:off x="5666400" y="3189240"/>
                    <a:ext cx="5148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 rot="10717800">
                    <a:off x="5631480" y="3141360"/>
                    <a:ext cx="51480" cy="48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5470920" y="3095280"/>
                <a:ext cx="181800" cy="90720"/>
                <a:chOff x="5470920" y="3095280"/>
                <a:chExt cx="181800" cy="9072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7551600">
                  <a:off x="5594040" y="312552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 rot="7551600">
                  <a:off x="5541840" y="310824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 rot="7551600">
                  <a:off x="5481360" y="310428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258520" y="3238560"/>
                <a:ext cx="321480" cy="111240"/>
                <a:chOff x="5258520" y="3238560"/>
                <a:chExt cx="321480" cy="1112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5407920" y="3240000"/>
                  <a:ext cx="172080" cy="109800"/>
                  <a:chOff x="5407920" y="3240000"/>
                  <a:chExt cx="172080" cy="109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V="1" rot="8351400">
                    <a:off x="5519160" y="3290760"/>
                    <a:ext cx="51120" cy="475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V="1" rot="8351400">
                    <a:off x="5474160" y="3265200"/>
                    <a:ext cx="5148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V="1" rot="8351400">
                    <a:off x="5417280" y="3250440"/>
                    <a:ext cx="51480" cy="48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258520" y="3238560"/>
                  <a:ext cx="175320" cy="77760"/>
                  <a:chOff x="5258520" y="3238560"/>
                  <a:chExt cx="175320" cy="777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V="1" rot="6340800">
                    <a:off x="5378400" y="324252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V="1" rot="6340800">
                    <a:off x="5323320" y="324360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V="1" rot="6340800">
                    <a:off x="5265360" y="326016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88" name=""/>
            <p:cNvSpPr/>
            <p:nvPr/>
          </p:nvSpPr>
          <p:spPr>
            <a:xfrm rot="21557400">
              <a:off x="5246640" y="3303000"/>
              <a:ext cx="51480" cy="478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11840" y="210204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544280" y="3404160"/>
              <a:ext cx="250200" cy="177840"/>
              <a:chOff x="4544280" y="3404160"/>
              <a:chExt cx="250200" cy="1778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4643640" y="3448440"/>
                <a:ext cx="150840" cy="133560"/>
                <a:chOff x="4643640" y="3448440"/>
                <a:chExt cx="150840" cy="133560"/>
              </a:xfrm>
            </p:grpSpPr>
            <p:sp>
              <p:nvSpPr>
                <p:cNvPr id="392" name=""/>
                <p:cNvSpPr/>
                <p:nvPr/>
              </p:nvSpPr>
              <p:spPr>
                <a:xfrm rot="12188400">
                  <a:off x="4735800" y="345636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rot="12188400">
                  <a:off x="4700880" y="349488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2188400">
                  <a:off x="4650840" y="352548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4544280" y="3404160"/>
                <a:ext cx="115920" cy="175320"/>
                <a:chOff x="4544280" y="3404160"/>
                <a:chExt cx="115920" cy="175320"/>
              </a:xfrm>
            </p:grpSpPr>
            <p:sp>
              <p:nvSpPr>
                <p:cNvPr id="396" name=""/>
                <p:cNvSpPr/>
                <p:nvPr/>
              </p:nvSpPr>
              <p:spPr>
                <a:xfrm rot="18705000">
                  <a:off x="4600800" y="351864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8705000">
                  <a:off x="4572000" y="347184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8705000">
                  <a:off x="4555080" y="341352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4201200" y="3020760"/>
              <a:ext cx="225720" cy="200880"/>
              <a:chOff x="4201200" y="3020760"/>
              <a:chExt cx="225720" cy="2008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4249440" y="3112920"/>
                <a:ext cx="177480" cy="108720"/>
                <a:chOff x="4249440" y="3112920"/>
                <a:chExt cx="177480" cy="108720"/>
              </a:xfrm>
            </p:grpSpPr>
            <p:sp>
              <p:nvSpPr>
                <p:cNvPr id="401" name=""/>
                <p:cNvSpPr/>
                <p:nvPr/>
              </p:nvSpPr>
              <p:spPr>
                <a:xfrm rot="13510200">
                  <a:off x="4367520" y="312192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13510200">
                  <a:off x="4319280" y="314748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3510200">
                  <a:off x="4260240" y="316044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201200" y="3020760"/>
                <a:ext cx="76320" cy="174960"/>
                <a:chOff x="4201200" y="3020760"/>
                <a:chExt cx="76320" cy="174960"/>
              </a:xfrm>
            </p:grpSpPr>
            <p:sp>
              <p:nvSpPr>
                <p:cNvPr id="405" name=""/>
                <p:cNvSpPr/>
                <p:nvPr/>
              </p:nvSpPr>
              <p:spPr>
                <a:xfrm rot="20026200">
                  <a:off x="4215600" y="313884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20026200">
                  <a:off x="4209120" y="308736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20026200">
                  <a:off x="4218120" y="302940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4070160" y="1890720"/>
              <a:ext cx="519840" cy="486360"/>
              <a:chOff x="4070160" y="1890720"/>
              <a:chExt cx="519840" cy="4863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4135320" y="1907640"/>
                <a:ext cx="220680" cy="196560"/>
                <a:chOff x="4135320" y="1907640"/>
                <a:chExt cx="220680" cy="1965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4275360" y="1907640"/>
                  <a:ext cx="80640" cy="172080"/>
                  <a:chOff x="4275360" y="1907640"/>
                  <a:chExt cx="80640" cy="1720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9584400">
                    <a:off x="4296960" y="1914840"/>
                    <a:ext cx="5112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9584400">
                    <a:off x="4297680" y="1966680"/>
                    <a:ext cx="5148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9584400">
                    <a:off x="4282200" y="2023560"/>
                    <a:ext cx="51480" cy="48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4135320" y="2009880"/>
                  <a:ext cx="158040" cy="94320"/>
                  <a:chOff x="4135320" y="2009880"/>
                  <a:chExt cx="158040" cy="943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100400">
                    <a:off x="4242960" y="205380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100400">
                    <a:off x="4190040" y="203904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6100400">
                    <a:off x="4137480" y="2008800"/>
                    <a:ext cx="48240" cy="514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4070160" y="1994040"/>
                <a:ext cx="84600" cy="168480"/>
                <a:chOff x="4070160" y="1994040"/>
                <a:chExt cx="84600" cy="168480"/>
              </a:xfrm>
            </p:grpSpPr>
            <p:sp>
              <p:nvSpPr>
                <p:cNvPr id="419" name=""/>
                <p:cNvSpPr/>
                <p:nvPr/>
              </p:nvSpPr>
              <p:spPr>
                <a:xfrm rot="20610000">
                  <a:off x="4075560" y="210816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20610000">
                  <a:off x="4078080" y="205632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20610000">
                  <a:off x="4097520" y="200016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379760" y="2106000"/>
                <a:ext cx="209520" cy="271080"/>
                <a:chOff x="4379760" y="2106000"/>
                <a:chExt cx="209520" cy="27108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4494600" y="2106000"/>
                  <a:ext cx="94680" cy="157680"/>
                  <a:chOff x="4494600" y="2106000"/>
                  <a:chExt cx="94680" cy="1576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10343400">
                    <a:off x="4534920" y="2108880"/>
                    <a:ext cx="5112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0343400">
                    <a:off x="4524480" y="2160360"/>
                    <a:ext cx="5148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0343400">
                    <a:off x="4497120" y="2212200"/>
                    <a:ext cx="51480" cy="48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4379760" y="2237400"/>
                  <a:ext cx="153720" cy="139680"/>
                  <a:chOff x="4379760" y="2237400"/>
                  <a:chExt cx="153720" cy="1396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12353400">
                    <a:off x="4476600" y="224532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12353400">
                    <a:off x="4439520" y="228564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2353400">
                    <a:off x="4388400" y="2317320"/>
                    <a:ext cx="48240" cy="514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336200" y="1890720"/>
                <a:ext cx="253800" cy="219240"/>
                <a:chOff x="4336200" y="1890720"/>
                <a:chExt cx="253800" cy="21924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4336200" y="1890720"/>
                  <a:ext cx="157320" cy="95760"/>
                  <a:chOff x="4336200" y="1890720"/>
                  <a:chExt cx="157320" cy="957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5353800">
                    <a:off x="4338000" y="1889280"/>
                    <a:ext cx="4788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5353800">
                    <a:off x="4390920" y="1904760"/>
                    <a:ext cx="48240" cy="511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5353800">
                    <a:off x="4443120" y="1936080"/>
                    <a:ext cx="48240" cy="514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4467600" y="1945080"/>
                  <a:ext cx="122400" cy="164880"/>
                  <a:chOff x="4467600" y="1945080"/>
                  <a:chExt cx="122400" cy="1648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7363800">
                    <a:off x="4475880" y="1955520"/>
                    <a:ext cx="5112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7363800">
                    <a:off x="4507920" y="1996560"/>
                    <a:ext cx="51480" cy="478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7363800">
                    <a:off x="4529880" y="2050920"/>
                    <a:ext cx="51480" cy="48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0" name=""/>
            <p:cNvSpPr/>
            <p:nvPr/>
          </p:nvSpPr>
          <p:spPr>
            <a:xfrm>
              <a:off x="4167720" y="224748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23240" y="239328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79120" y="253908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4640" y="268488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61480" y="2345040"/>
              <a:ext cx="259560" cy="77760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4468320" y="2418120"/>
              <a:ext cx="220680" cy="204120"/>
              <a:chOff x="4468320" y="2418120"/>
              <a:chExt cx="220680" cy="204120"/>
            </a:xfrm>
          </p:grpSpPr>
          <p:sp>
            <p:nvSpPr>
              <p:cNvPr id="446" name=""/>
              <p:cNvSpPr/>
              <p:nvPr/>
            </p:nvSpPr>
            <p:spPr>
              <a:xfrm rot="6384600">
                <a:off x="4475520" y="2455560"/>
                <a:ext cx="48240" cy="514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6384600">
                <a:off x="4513680" y="2431440"/>
                <a:ext cx="48240" cy="514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6384600">
                <a:off x="4566960" y="2422440"/>
                <a:ext cx="47880" cy="511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597920" y="2440080"/>
                <a:ext cx="91080" cy="182160"/>
                <a:chOff x="4597920" y="2440080"/>
                <a:chExt cx="91080" cy="182160"/>
              </a:xfrm>
            </p:grpSpPr>
            <p:sp>
              <p:nvSpPr>
                <p:cNvPr id="450" name=""/>
                <p:cNvSpPr/>
                <p:nvPr/>
              </p:nvSpPr>
              <p:spPr>
                <a:xfrm rot="8647800">
                  <a:off x="4608360" y="244908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8647800">
                  <a:off x="4626000" y="250092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8647800">
                  <a:off x="4629960" y="256104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"/>
            <p:cNvSpPr/>
            <p:nvPr/>
          </p:nvSpPr>
          <p:spPr>
            <a:xfrm>
              <a:off x="4530600" y="3364920"/>
              <a:ext cx="51120" cy="478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0600" y="3316680"/>
              <a:ext cx="51120" cy="48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14800" y="2150280"/>
              <a:ext cx="51480" cy="48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277160" y="2294640"/>
              <a:ext cx="180720" cy="97920"/>
              <a:chOff x="4277160" y="2294640"/>
              <a:chExt cx="180720" cy="97920"/>
            </a:xfrm>
          </p:grpSpPr>
          <p:sp>
            <p:nvSpPr>
              <p:cNvPr id="457" name=""/>
              <p:cNvSpPr/>
              <p:nvPr/>
            </p:nvSpPr>
            <p:spPr>
              <a:xfrm rot="13861800">
                <a:off x="4398840" y="2303640"/>
                <a:ext cx="47880" cy="511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3861800">
                <a:off x="4348080" y="2324520"/>
                <a:ext cx="48240" cy="511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3861800">
                <a:off x="4287960" y="2331720"/>
                <a:ext cx="48240" cy="514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41640" y="2662560"/>
              <a:ext cx="241920" cy="167400"/>
              <a:chOff x="4841640" y="2662560"/>
              <a:chExt cx="241920" cy="1674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841640" y="2684880"/>
                <a:ext cx="102600" cy="145080"/>
                <a:chOff x="4841640" y="2684880"/>
                <a:chExt cx="102600" cy="1450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841640" y="278208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858560" y="273312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892760" y="268488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935960" y="2662560"/>
                <a:ext cx="147600" cy="140760"/>
                <a:chOff x="4935960" y="2662560"/>
                <a:chExt cx="147600" cy="140760"/>
              </a:xfrm>
            </p:grpSpPr>
            <p:sp>
              <p:nvSpPr>
                <p:cNvPr id="466" name=""/>
                <p:cNvSpPr/>
                <p:nvPr/>
              </p:nvSpPr>
              <p:spPr>
                <a:xfrm rot="6516000">
                  <a:off x="4943520" y="266760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6516000">
                  <a:off x="4988880" y="269964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6516000">
                  <a:off x="5027040" y="274644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9" name=""/>
            <p:cNvSpPr/>
            <p:nvPr/>
          </p:nvSpPr>
          <p:spPr>
            <a:xfrm>
              <a:off x="5050080" y="2733840"/>
              <a:ext cx="207000" cy="1454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213520" y="2755440"/>
              <a:ext cx="228600" cy="188280"/>
              <a:chOff x="5213520" y="2755440"/>
              <a:chExt cx="228600" cy="18828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5353920" y="2755440"/>
                <a:ext cx="88200" cy="165240"/>
                <a:chOff x="5353920" y="2755440"/>
                <a:chExt cx="88200" cy="165240"/>
              </a:xfrm>
            </p:grpSpPr>
            <p:sp>
              <p:nvSpPr>
                <p:cNvPr id="472" name=""/>
                <p:cNvSpPr/>
                <p:nvPr/>
              </p:nvSpPr>
              <p:spPr>
                <a:xfrm rot="9970800">
                  <a:off x="5385960" y="276048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9970800">
                  <a:off x="5380920" y="281232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9970800">
                  <a:off x="5358960" y="286704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5213520" y="2835000"/>
                <a:ext cx="154800" cy="108720"/>
                <a:chOff x="5213520" y="2835000"/>
                <a:chExt cx="154800" cy="108720"/>
              </a:xfrm>
            </p:grpSpPr>
            <p:sp>
              <p:nvSpPr>
                <p:cNvPr id="476" name=""/>
                <p:cNvSpPr/>
                <p:nvPr/>
              </p:nvSpPr>
              <p:spPr>
                <a:xfrm rot="16486800">
                  <a:off x="5316480" y="289188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6486800">
                  <a:off x="5265360" y="287208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16486800">
                  <a:off x="5216760" y="283536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257440" y="2323080"/>
              <a:ext cx="241560" cy="167040"/>
              <a:chOff x="5257440" y="2323080"/>
              <a:chExt cx="241560" cy="1670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257440" y="2345040"/>
                <a:ext cx="102600" cy="145080"/>
                <a:chOff x="5257440" y="2345040"/>
                <a:chExt cx="102600" cy="145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257440" y="244224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274360" y="239328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308560" y="234504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351760" y="2323080"/>
                <a:ext cx="147240" cy="140400"/>
                <a:chOff x="5351760" y="2323080"/>
                <a:chExt cx="147240" cy="140400"/>
              </a:xfrm>
            </p:grpSpPr>
            <p:sp>
              <p:nvSpPr>
                <p:cNvPr id="485" name=""/>
                <p:cNvSpPr/>
                <p:nvPr/>
              </p:nvSpPr>
              <p:spPr>
                <a:xfrm rot="6516000">
                  <a:off x="5359320" y="232812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6516000">
                  <a:off x="5404320" y="235980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6516000">
                  <a:off x="5442480" y="240660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286600" y="2453400"/>
              <a:ext cx="155520" cy="305640"/>
              <a:chOff x="5286600" y="2453400"/>
              <a:chExt cx="155520" cy="30564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5286600" y="2453400"/>
                <a:ext cx="132120" cy="163440"/>
                <a:chOff x="5286600" y="2453400"/>
                <a:chExt cx="132120" cy="163440"/>
              </a:xfrm>
            </p:grpSpPr>
            <p:sp>
              <p:nvSpPr>
                <p:cNvPr id="490" name=""/>
                <p:cNvSpPr/>
                <p:nvPr/>
              </p:nvSpPr>
              <p:spPr>
                <a:xfrm rot="7307400">
                  <a:off x="5297040" y="2461680"/>
                  <a:ext cx="4788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7307400">
                  <a:off x="5333400" y="2502720"/>
                  <a:ext cx="48240" cy="51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7307400">
                  <a:off x="5359680" y="2556720"/>
                  <a:ext cx="48240" cy="514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5364360" y="2583720"/>
                <a:ext cx="77760" cy="175320"/>
                <a:chOff x="5364360" y="2583720"/>
                <a:chExt cx="77760" cy="175320"/>
              </a:xfrm>
            </p:grpSpPr>
            <p:sp>
              <p:nvSpPr>
                <p:cNvPr id="494" name=""/>
                <p:cNvSpPr/>
                <p:nvPr/>
              </p:nvSpPr>
              <p:spPr>
                <a:xfrm rot="9317400">
                  <a:off x="5378040" y="2592000"/>
                  <a:ext cx="5112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9317400">
                  <a:off x="5382720" y="2644200"/>
                  <a:ext cx="51480" cy="47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9317400">
                  <a:off x="5371920" y="2702160"/>
                  <a:ext cx="51480" cy="48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"/>
          <p:cNvSpPr/>
          <p:nvPr/>
        </p:nvSpPr>
        <p:spPr>
          <a:xfrm>
            <a:off x="3487680" y="588636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nard MT Condensed"/>
              </a:rPr>
              <a:t>REWA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Spurensuche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1320" y="5734080"/>
            <a:ext cx="8274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cc00"/>
                </a:solidFill>
                <a:latin typeface="Times New Roman"/>
              </a:rPr>
              <a:t>Farbstoff FURA-2  macht Ca</a:t>
            </a:r>
            <a:r>
              <a:rPr b="1" lang="en-GB" sz="3800" spc="-1" strike="noStrike" baseline="30000">
                <a:solidFill>
                  <a:srgbClr val="ffcc00"/>
                </a:solidFill>
                <a:latin typeface="Times New Roman"/>
              </a:rPr>
              <a:t>2+</a:t>
            </a:r>
            <a:r>
              <a:rPr b="1" lang="en-GB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GB" sz="3800" spc="-1" strike="noStrike">
                <a:solidFill>
                  <a:srgbClr val="ffcc00"/>
                </a:solidFill>
                <a:latin typeface="Times New Roman"/>
              </a:rPr>
              <a:t>sichtb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403280" y="1341360"/>
          <a:ext cx="648180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64818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2" name=""/>
          <p:cNvGrpSpPr/>
          <p:nvPr/>
        </p:nvGrpSpPr>
        <p:grpSpPr>
          <a:xfrm>
            <a:off x="5940360" y="2421000"/>
            <a:ext cx="1150920" cy="934920"/>
            <a:chOff x="5940360" y="2421000"/>
            <a:chExt cx="1150920" cy="934920"/>
          </a:xfrm>
        </p:grpSpPr>
        <p:sp>
          <p:nvSpPr>
            <p:cNvPr id="503" name=""/>
            <p:cNvSpPr/>
            <p:nvPr/>
          </p:nvSpPr>
          <p:spPr>
            <a:xfrm>
              <a:off x="5940360" y="2421000"/>
              <a:ext cx="1150920" cy="934920"/>
            </a:xfrm>
            <a:prstGeom prst="hexagon">
              <a:avLst>
                <a:gd name="adj" fmla="val 30776"/>
                <a:gd name="vf" fmla="val 1154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82920" y="2637000"/>
              <a:ext cx="93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Fura-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908000" y="1689120"/>
            <a:ext cx="72108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93960" y="17604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60720" y="17604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ra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2543040" y="1790280"/>
            <a:ext cx="547920" cy="360360"/>
          </a:xfrm>
          <a:prstGeom prst="flowChartOnlineStora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7720" y="1530360"/>
            <a:ext cx="1150920" cy="934920"/>
          </a:xfrm>
          <a:prstGeom prst="hexagon">
            <a:avLst>
              <a:gd name="adj" fmla="val 30776"/>
              <a:gd name="vf" fmla="val 1154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44800" y="17622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ra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Fluoreszenz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38720" y="3716280"/>
            <a:ext cx="576360" cy="576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14720" y="2565360"/>
            <a:ext cx="2909880" cy="2952720"/>
          </a:xfrm>
          <a:prstGeom prst="donut">
            <a:avLst>
              <a:gd name="adj" fmla="val 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84600" y="2205000"/>
            <a:ext cx="3600360" cy="3672000"/>
          </a:xfrm>
          <a:prstGeom prst="donut">
            <a:avLst>
              <a:gd name="adj" fmla="val 1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16080" y="4078440"/>
            <a:ext cx="216000" cy="21564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06720" y="2060640"/>
            <a:ext cx="1079280" cy="647640"/>
          </a:xfrm>
          <a:prstGeom prst="lightningBol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 rot="514200">
            <a:off x="6600600" y="2636640"/>
            <a:ext cx="1079640" cy="64764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116 C -0.00625 -0.11283 0.05607 -0.21734 0.14097 -0.22774 C 0.22586 -0.23838 0.30156 -0.15237 0.30955 -0.03537 C 0.31771 0.07931 0.25521 0.18127 0.17014 0.19214 C 0.08628 0.20254 0.00989 0.11746 0.00156 0.00116 Z">
                                      <p:cBhvr>
                                        <p:cTn id="12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625 C 0.00087 -0.02613 0.00382 -0.09226 0.01389 -0.11954 C 0.02291 -0.14868 0.04409 -0.17041 0.05364 -0.18105 E">
                                      <p:cBhvr>
                                        <p:cTn id="15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5 -0.18428 L 0.0967 -0.27792 E">
                                      <p:cBhvr>
                                        <p:cTn id="24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1 -0.27145 C 0.18802 -0.31584 0.29722 -0.24879 0.3342 -0.11353 E">
                                      <p:cBhvr>
                                        <p:cTn id="27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64 -0.12972 L 0.31302 -0.02058 E">
                                      <p:cBhvr>
                                        <p:cTn id="30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2 -0.02589 C 0.31614 0.08902 0.24896 0.18659 0.16319 0.19052 C 0.07777 0.19468 0.00555 0.10405 0.00277 -0.0111 C -0.00052 -0.12532 0.06649 -0.2222 0.15225 -0.22589 C 0.23767 -0.23029 0.30989 -0.14104 0.31302 -0.02589 Z">
                                      <p:cBhvr>
                                        <p:cTn id="39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924360" y="6165720"/>
            <a:ext cx="934920" cy="71640"/>
          </a:xfrm>
          <a:prstGeom prst="rect">
            <a:avLst/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4720" y="2028960"/>
            <a:ext cx="93672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141800" y="2028960"/>
            <a:ext cx="93492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84360" y="2316240"/>
            <a:ext cx="208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8720" y="2116080"/>
            <a:ext cx="17272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4570560" y="2532240"/>
            <a:ext cx="792000" cy="217440"/>
          </a:xfrm>
          <a:custGeom>
            <a:avLst/>
            <a:gdLst>
              <a:gd name="textAreaLeft" fmla="*/ 174240 w 792000"/>
              <a:gd name="textAreaRight" fmla="*/ 617760 w 79200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9c9c9c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747880"/>
            <a:ext cx="790560" cy="793800"/>
          </a:xfrm>
          <a:prstGeom prst="rect">
            <a:avLst/>
          </a:prstGeom>
          <a:gradFill rotWithShape="0">
            <a:gsLst>
              <a:gs pos="0">
                <a:srgbClr val="3f3f3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789080" y="3971880"/>
            <a:ext cx="165564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53080" y="4116240"/>
            <a:ext cx="73080" cy="71640"/>
          </a:xfrm>
          <a:prstGeom prst="parallelogram">
            <a:avLst>
              <a:gd name="adj" fmla="val 255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9660200">
            <a:off x="3995640" y="4043160"/>
            <a:ext cx="1871640" cy="14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5438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84720" y="4691160"/>
            <a:ext cx="1439640" cy="2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22400" y="2852640"/>
            <a:ext cx="1368360" cy="13525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45160" y="5762520"/>
            <a:ext cx="431640" cy="6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08000" y="3683160"/>
            <a:ext cx="71640" cy="72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54520" y="2276640"/>
            <a:ext cx="216000" cy="1728720"/>
          </a:xfrm>
          <a:prstGeom prst="upArrow">
            <a:avLst>
              <a:gd name="adj1" fmla="val 50000"/>
              <a:gd name="adj2" fmla="val 2000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79640" y="3900600"/>
            <a:ext cx="302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63840" y="3929040"/>
            <a:ext cx="1527120" cy="7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932360" y="2314440"/>
            <a:ext cx="216000" cy="3025800"/>
            <a:chOff x="4932360" y="2314440"/>
            <a:chExt cx="216000" cy="3025800"/>
          </a:xfrm>
        </p:grpSpPr>
        <p:sp>
          <p:nvSpPr>
            <p:cNvPr id="537" name=""/>
            <p:cNvSpPr/>
            <p:nvPr/>
          </p:nvSpPr>
          <p:spPr>
            <a:xfrm rot="10800000">
              <a:off x="4932360" y="3682800"/>
              <a:ext cx="216000" cy="1657440"/>
            </a:xfrm>
            <a:prstGeom prst="upArrow">
              <a:avLst>
                <a:gd name="adj1" fmla="val 50000"/>
                <a:gd name="adj2" fmla="val 19183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03640" y="2314440"/>
              <a:ext cx="73080" cy="187488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6300720" y="166680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Z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72280" y="5315040"/>
            <a:ext cx="158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Kam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42920" y="213372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Lichtqu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3357720"/>
            <a:ext cx="24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Mikrosk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00720" y="1612800"/>
            <a:ext cx="863280" cy="505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Versuchsaufba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873680" y="5329080"/>
            <a:ext cx="360360" cy="388800"/>
            <a:chOff x="4873680" y="5329080"/>
            <a:chExt cx="360360" cy="388800"/>
          </a:xfrm>
        </p:grpSpPr>
        <p:sp>
          <p:nvSpPr>
            <p:cNvPr id="546" name=""/>
            <p:cNvSpPr/>
            <p:nvPr/>
          </p:nvSpPr>
          <p:spPr>
            <a:xfrm>
              <a:off x="4958280" y="5430600"/>
              <a:ext cx="180000" cy="2872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73680" y="5329080"/>
              <a:ext cx="360360" cy="2160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55640" y="4724280"/>
            <a:ext cx="1728720" cy="1800000"/>
            <a:chOff x="755640" y="4724280"/>
            <a:chExt cx="1728720" cy="1800000"/>
          </a:xfrm>
        </p:grpSpPr>
        <p:sp>
          <p:nvSpPr>
            <p:cNvPr id="549" name=""/>
            <p:cNvSpPr/>
            <p:nvPr/>
          </p:nvSpPr>
          <p:spPr>
            <a:xfrm>
              <a:off x="971280" y="6021000"/>
              <a:ext cx="15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74840" y="5848200"/>
              <a:ext cx="720720" cy="142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71280" y="4724280"/>
              <a:ext cx="1513080" cy="11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16000" y="4868640"/>
              <a:ext cx="1224000" cy="8636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640" y="6237000"/>
              <a:ext cx="1584360" cy="287280"/>
            </a:xfrm>
            <a:prstGeom prst="flowChartInputOutpu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1116000" y="6308640"/>
              <a:ext cx="358560" cy="71280"/>
              <a:chOff x="1116000" y="6308640"/>
              <a:chExt cx="358560" cy="71280"/>
            </a:xfrm>
          </p:grpSpPr>
          <p:sp>
            <p:nvSpPr>
              <p:cNvPr id="555" name=""/>
              <p:cNvSpPr/>
              <p:nvPr/>
            </p:nvSpPr>
            <p:spPr>
              <a:xfrm>
                <a:off x="111600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5892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87280" y="6308640"/>
              <a:ext cx="358560" cy="71280"/>
              <a:chOff x="1187280" y="6308640"/>
              <a:chExt cx="358560" cy="71280"/>
            </a:xfrm>
          </p:grpSpPr>
          <p:sp>
            <p:nvSpPr>
              <p:cNvPr id="559" name=""/>
              <p:cNvSpPr/>
              <p:nvPr/>
            </p:nvSpPr>
            <p:spPr>
              <a:xfrm>
                <a:off x="118728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3020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74560" y="630864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1547640" y="6308640"/>
              <a:ext cx="429840" cy="71280"/>
              <a:chOff x="1547640" y="6308640"/>
              <a:chExt cx="429840" cy="712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547640" y="6308640"/>
                <a:ext cx="358560" cy="71280"/>
                <a:chOff x="1547640" y="6308640"/>
                <a:chExt cx="358560" cy="71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54764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69056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3492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1618920" y="6308640"/>
                <a:ext cx="358560" cy="71280"/>
                <a:chOff x="1618920" y="6308640"/>
                <a:chExt cx="358560" cy="712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61892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76184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906200" y="6308640"/>
                  <a:ext cx="71280" cy="712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1" name=""/>
            <p:cNvGrpSpPr/>
            <p:nvPr/>
          </p:nvGrpSpPr>
          <p:grpSpPr>
            <a:xfrm>
              <a:off x="1042920" y="6379920"/>
              <a:ext cx="358560" cy="71280"/>
              <a:chOff x="1042920" y="6379920"/>
              <a:chExt cx="358560" cy="71280"/>
            </a:xfrm>
          </p:grpSpPr>
          <p:sp>
            <p:nvSpPr>
              <p:cNvPr id="572" name=""/>
              <p:cNvSpPr/>
              <p:nvPr/>
            </p:nvSpPr>
            <p:spPr>
              <a:xfrm>
                <a:off x="104292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18584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3020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1114200" y="6379920"/>
              <a:ext cx="358560" cy="71280"/>
              <a:chOff x="1114200" y="6379920"/>
              <a:chExt cx="358560" cy="71280"/>
            </a:xfrm>
          </p:grpSpPr>
          <p:sp>
            <p:nvSpPr>
              <p:cNvPr id="576" name=""/>
              <p:cNvSpPr/>
              <p:nvPr/>
            </p:nvSpPr>
            <p:spPr>
              <a:xfrm>
                <a:off x="111420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5712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40148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403280" y="6379920"/>
              <a:ext cx="358560" cy="71280"/>
              <a:chOff x="1403280" y="6379920"/>
              <a:chExt cx="358560" cy="71280"/>
            </a:xfrm>
          </p:grpSpPr>
          <p:sp>
            <p:nvSpPr>
              <p:cNvPr id="580" name=""/>
              <p:cNvSpPr/>
              <p:nvPr/>
            </p:nvSpPr>
            <p:spPr>
              <a:xfrm>
                <a:off x="140328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4620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69056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1474560" y="6379920"/>
              <a:ext cx="358560" cy="71280"/>
              <a:chOff x="1474560" y="6379920"/>
              <a:chExt cx="358560" cy="71280"/>
            </a:xfrm>
          </p:grpSpPr>
          <p:sp>
            <p:nvSpPr>
              <p:cNvPr id="584" name=""/>
              <p:cNvSpPr/>
              <p:nvPr/>
            </p:nvSpPr>
            <p:spPr>
              <a:xfrm>
                <a:off x="147456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1748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6184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619280" y="6379920"/>
              <a:ext cx="358560" cy="71280"/>
              <a:chOff x="1619280" y="6379920"/>
              <a:chExt cx="358560" cy="71280"/>
            </a:xfrm>
          </p:grpSpPr>
          <p:sp>
            <p:nvSpPr>
              <p:cNvPr id="588" name=""/>
              <p:cNvSpPr/>
              <p:nvPr/>
            </p:nvSpPr>
            <p:spPr>
              <a:xfrm>
                <a:off x="161928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76220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90656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692000" y="6379920"/>
              <a:ext cx="358560" cy="71280"/>
              <a:chOff x="1692000" y="6379920"/>
              <a:chExt cx="358560" cy="71280"/>
            </a:xfrm>
          </p:grpSpPr>
          <p:sp>
            <p:nvSpPr>
              <p:cNvPr id="592" name=""/>
              <p:cNvSpPr/>
              <p:nvPr/>
            </p:nvSpPr>
            <p:spPr>
              <a:xfrm>
                <a:off x="169200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3492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79280" y="6379920"/>
                <a:ext cx="71280" cy="71280"/>
              </a:xfrm>
              <a:prstGeom prst="parallelogram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 rot="10800000">
            <a:off x="2541240" y="6092640"/>
            <a:ext cx="1942920" cy="215640"/>
          </a:xfrm>
          <a:custGeom>
            <a:avLst/>
            <a:gdLst>
              <a:gd name="textAreaLeft" fmla="*/ 242640 w 1942920"/>
              <a:gd name="textAreaRight" fmla="*/ 1700280 w 1942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216080" y="4933800"/>
          <a:ext cx="10080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4933800"/>
                    <a:ext cx="1008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2050920" y="6093000"/>
            <a:ext cx="289080" cy="7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42920" y="6093000"/>
            <a:ext cx="730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Gegenüberstellu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54068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492360" y="4653000"/>
            <a:ext cx="107964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521800" y="4471200"/>
            <a:ext cx="100656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2051640" y="2780640"/>
            <a:ext cx="1871640" cy="863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10800000">
            <a:off x="4716360" y="4723920"/>
            <a:ext cx="1511280" cy="505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03640" y="4797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t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6000" y="2276640"/>
            <a:ext cx="86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as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zelle + Ca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Mastzelle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4427640" y="2378160"/>
          <a:ext cx="45529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378160"/>
                    <a:ext cx="455292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31760" y="2373480"/>
          <a:ext cx="4226040" cy="28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" y="2373480"/>
                    <a:ext cx="42260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826920" y="551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ohne Aktiv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551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mit Aktiv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199200" y="773280"/>
            <a:ext cx="2519280" cy="1223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91360" y="857160"/>
            <a:ext cx="2346120" cy="1071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21480" y="1373040"/>
            <a:ext cx="858960" cy="436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5400000">
            <a:off x="7362000" y="1393200"/>
            <a:ext cx="154080" cy="396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229520" y="831960"/>
            <a:ext cx="426960" cy="323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7396200" y="1325520"/>
            <a:ext cx="115920" cy="525600"/>
          </a:xfrm>
          <a:prstGeom prst="upArrow">
            <a:avLst>
              <a:gd name="adj1" fmla="val 50000"/>
              <a:gd name="adj2" fmla="val 1133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54840" y="915840"/>
            <a:ext cx="309600" cy="241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20407200">
            <a:off x="7883640" y="1676520"/>
            <a:ext cx="466560" cy="369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478640" y="1100160"/>
            <a:ext cx="115920" cy="393840"/>
          </a:xfrm>
          <a:custGeom>
            <a:avLst/>
            <a:gdLst>
              <a:gd name="textAreaLeft" fmla="*/ 15480 w 115920"/>
              <a:gd name="textAreaRight" fmla="*/ 100440 w 115920"/>
              <a:gd name="textAreaTop" fmla="*/ 68760 h 393840"/>
              <a:gd name="textAreaBottom" fmla="*/ 285480 h 3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6466400">
            <a:off x="7181640" y="1086840"/>
            <a:ext cx="111240" cy="152640"/>
          </a:xfrm>
          <a:custGeom>
            <a:avLst/>
            <a:gdLst>
              <a:gd name="textAreaLeft" fmla="*/ 14760 w 111240"/>
              <a:gd name="textAreaRight" fmla="*/ 96480 w 111240"/>
              <a:gd name="textAreaTop" fmla="*/ 26640 h 152640"/>
              <a:gd name="textAreaBottom" fmla="*/ 11088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6877200">
            <a:off x="8131320" y="844200"/>
            <a:ext cx="149040" cy="241200"/>
          </a:xfrm>
          <a:prstGeom prst="flowChartDe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172360" y="958680"/>
            <a:ext cx="6372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 rot="1979400">
            <a:off x="8172000" y="1237320"/>
            <a:ext cx="136440" cy="376200"/>
          </a:xfrm>
          <a:custGeom>
            <a:avLst/>
            <a:gdLst>
              <a:gd name="textAreaLeft" fmla="*/ 18000 w 136440"/>
              <a:gd name="textAreaRight" fmla="*/ 118440 w 13644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4133400">
            <a:off x="7840080" y="1734840"/>
            <a:ext cx="587520" cy="304920"/>
          </a:xfrm>
          <a:prstGeom prst="leftArrow">
            <a:avLst>
              <a:gd name="adj1" fmla="val 50000"/>
              <a:gd name="adj2" fmla="val 481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10520" y="928800"/>
            <a:ext cx="6336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132760" y="928800"/>
            <a:ext cx="6516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172360" y="866880"/>
            <a:ext cx="6372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64600" y="835200"/>
            <a:ext cx="651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88280" y="773280"/>
            <a:ext cx="637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55000" y="1112760"/>
            <a:ext cx="21420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121600" y="1149480"/>
            <a:ext cx="63720" cy="5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21600" y="1198440"/>
            <a:ext cx="637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80280" y="1184400"/>
            <a:ext cx="651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23240" y="1039680"/>
            <a:ext cx="6336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7837560" y="987480"/>
            <a:ext cx="214200" cy="181080"/>
            <a:chOff x="7837560" y="987480"/>
            <a:chExt cx="214200" cy="181080"/>
          </a:xfrm>
        </p:grpSpPr>
        <p:sp>
          <p:nvSpPr>
            <p:cNvPr id="640" name=""/>
            <p:cNvSpPr/>
            <p:nvPr/>
          </p:nvSpPr>
          <p:spPr>
            <a:xfrm>
              <a:off x="7837560" y="987480"/>
              <a:ext cx="214200" cy="1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43760" y="1077480"/>
              <a:ext cx="644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92280" y="1061280"/>
              <a:ext cx="637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535080" y="635400"/>
            <a:ext cx="642240" cy="515160"/>
            <a:chOff x="6535080" y="635400"/>
            <a:chExt cx="642240" cy="515160"/>
          </a:xfrm>
        </p:grpSpPr>
        <p:sp>
          <p:nvSpPr>
            <p:cNvPr id="644" name=""/>
            <p:cNvSpPr/>
            <p:nvPr/>
          </p:nvSpPr>
          <p:spPr>
            <a:xfrm rot="19851000">
              <a:off x="6626160" y="669960"/>
              <a:ext cx="256320" cy="44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879200">
              <a:off x="6824880" y="674640"/>
              <a:ext cx="256320" cy="44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466400">
            <a:off x="6892200" y="1058040"/>
            <a:ext cx="110880" cy="154080"/>
          </a:xfrm>
          <a:custGeom>
            <a:avLst/>
            <a:gdLst>
              <a:gd name="textAreaLeft" fmla="*/ 14760 w 110880"/>
              <a:gd name="textAreaRight" fmla="*/ 96120 w 110880"/>
              <a:gd name="textAreaTop" fmla="*/ 27000 h 154080"/>
              <a:gd name="textAreaBottom" fmla="*/ 111960 h 1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07160" y="458640"/>
            <a:ext cx="284040" cy="5144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9791600">
            <a:off x="6581880" y="302760"/>
            <a:ext cx="26820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813200">
            <a:off x="6862320" y="306000"/>
            <a:ext cx="260280" cy="398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72240" y="316080"/>
            <a:ext cx="370080" cy="23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923240" y="1012680"/>
            <a:ext cx="6516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50280" y="744480"/>
            <a:ext cx="651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256600" y="831960"/>
            <a:ext cx="6336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Ergebnis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4000" y="1844640"/>
            <a:ext cx="8820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aT1 nicht alleine für Ca</a:t>
            </a:r>
            <a:r>
              <a:rPr b="1" i="1" lang="en-US" sz="3200" spc="-1" strike="noStrike" baseline="30000">
                <a:solidFill>
                  <a:srgbClr val="ffcc00"/>
                </a:solidFill>
                <a:latin typeface="Times New Roman"/>
              </a:rPr>
              <a:t>2+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-Einstrom in 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Mastzellen verantwort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Komplizen gesuc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8360" y="2349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16720" cy="5459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2484720" y="602136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Danke für Eure Aufmerksamke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76720" y="1341360"/>
          <a:ext cx="2384280" cy="21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41360"/>
                    <a:ext cx="238428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Allergie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4292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15-20% der Bevölkerung leiden unter Allerg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Tendenz weiter steig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Wogegen man allergisch sein kann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71685" t="7114" r="5925" b="76343"/>
          <a:stretch/>
        </p:blipFill>
        <p:spPr>
          <a:xfrm>
            <a:off x="412920" y="1481040"/>
            <a:ext cx="259236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46014" t="7087" r="31280" b="76370"/>
          <a:stretch/>
        </p:blipFill>
        <p:spPr>
          <a:xfrm>
            <a:off x="6227640" y="1528920"/>
            <a:ext cx="2594160" cy="238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5475" t="29623" r="31315" b="53702"/>
          <a:stretch/>
        </p:blipFill>
        <p:spPr>
          <a:xfrm>
            <a:off x="4944960" y="4086360"/>
            <a:ext cx="2519640" cy="230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45578" t="52169" r="31315" b="30721"/>
          <a:stretch/>
        </p:blipFill>
        <p:spPr>
          <a:xfrm>
            <a:off x="21225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4240" y="2924280"/>
            <a:ext cx="3243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cc00"/>
                </a:solidFill>
                <a:latin typeface="Times New Roman"/>
              </a:rPr>
              <a:t>… </a:t>
            </a:r>
            <a:r>
              <a:rPr b="1" i="1" lang="en-US" sz="4600" spc="-1" strike="noStrike">
                <a:solidFill>
                  <a:srgbClr val="ffcc00"/>
                </a:solidFill>
                <a:latin typeface="Times New Roman"/>
              </a:rPr>
              <a:t>Allerge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Die Mastzel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139" t="1987" r="0" b="0"/>
          <a:stretch/>
        </p:blipFill>
        <p:spPr>
          <a:xfrm>
            <a:off x="1187280" y="1989000"/>
            <a:ext cx="3265560" cy="359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714" t="2012" r="68327" b="0"/>
          <a:stretch/>
        </p:blipFill>
        <p:spPr>
          <a:xfrm>
            <a:off x="1265400" y="2060640"/>
            <a:ext cx="3168360" cy="34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2411" t="53995" r="68125" b="1250"/>
          <a:stretch/>
        </p:blipFill>
        <p:spPr>
          <a:xfrm>
            <a:off x="4859280" y="1989000"/>
            <a:ext cx="34257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Erster Kontak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5847" r="76329" b="10143"/>
          <a:stretch/>
        </p:blipFill>
        <p:spPr>
          <a:xfrm>
            <a:off x="468360" y="2951280"/>
            <a:ext cx="24987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5455" t="36749" r="0" b="0"/>
          <a:stretch/>
        </p:blipFill>
        <p:spPr>
          <a:xfrm>
            <a:off x="5958000" y="2951280"/>
            <a:ext cx="2509560" cy="25606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281400" y="2951280"/>
            <a:ext cx="2376000" cy="2558520"/>
            <a:chOff x="3281400" y="2951280"/>
            <a:chExt cx="2376000" cy="25585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rcRect l="45452" t="34463" r="31826" b="0"/>
            <a:stretch/>
          </p:blipFill>
          <p:spPr>
            <a:xfrm>
              <a:off x="3281400" y="2951280"/>
              <a:ext cx="2374200" cy="25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370840" y="4206240"/>
              <a:ext cx="286560" cy="44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4360" y="22701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rster Konta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4480" y="15825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Produktion von Antikörper für Alle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29280" y="15825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Antikörper bindet an Mastz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41680" y="587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Keine allergische Reak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3080" y="4856040"/>
            <a:ext cx="2158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-Zelle bildet Antikör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4782960"/>
            <a:ext cx="151128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43360" y="478476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astz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33577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21000" y="341136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Mechanismus der Aktivieru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4385" t="11021" r="65703" b="44372"/>
          <a:stretch/>
        </p:blipFill>
        <p:spPr>
          <a:xfrm>
            <a:off x="711360" y="2963880"/>
            <a:ext cx="3350880" cy="3081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8880" y="2349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Mastzelle mit Antikör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19130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Durch Aller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aktivierte Mastz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30640" y="2968560"/>
            <a:ext cx="3362400" cy="3095640"/>
            <a:chOff x="5030640" y="2968560"/>
            <a:chExt cx="3362400" cy="3095640"/>
          </a:xfrm>
        </p:grpSpPr>
        <p:sp>
          <p:nvSpPr>
            <p:cNvPr id="84" name=""/>
            <p:cNvSpPr/>
            <p:nvPr/>
          </p:nvSpPr>
          <p:spPr>
            <a:xfrm>
              <a:off x="5030640" y="2968560"/>
              <a:ext cx="3362400" cy="30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rcRect l="48384" t="12829" r="17294" b="42962"/>
            <a:stretch/>
          </p:blipFill>
          <p:spPr>
            <a:xfrm>
              <a:off x="5079960" y="3111120"/>
              <a:ext cx="30970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032680" y="3408120"/>
              <a:ext cx="360360" cy="14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11960" y="4848120"/>
              <a:ext cx="1081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6680" y="4632120"/>
              <a:ext cx="5763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16680" y="3119040"/>
              <a:ext cx="576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68960" y="5472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ista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87280" y="5734080"/>
            <a:ext cx="1152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5589720"/>
            <a:ext cx="12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ller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7189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07664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ze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314172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02724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ntikör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… </a:t>
            </a: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nach der Aktivieru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4590"/>
          <a:stretch/>
        </p:blipFill>
        <p:spPr>
          <a:xfrm>
            <a:off x="539640" y="2052720"/>
            <a:ext cx="8064720" cy="396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09960" y="2343240"/>
            <a:ext cx="43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2560" y="289728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87720" y="2104920"/>
            <a:ext cx="27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alzium-Einst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Z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480" y="208296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AU" sz="5000" spc="-1" strike="noStrike">
                <a:solidFill>
                  <a:srgbClr val="ffcc00"/>
                </a:solidFill>
                <a:latin typeface="Times New Roman"/>
              </a:rPr>
              <a:t>Der Kalziumkan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55920" y="1413000"/>
            <a:ext cx="5832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-2736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cc00"/>
                </a:solidFill>
                <a:latin typeface="Times New Roman"/>
              </a:rPr>
              <a:t>Allergiemechanism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1040" y="2505240"/>
            <a:ext cx="6384960" cy="339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16120" y="2736720"/>
            <a:ext cx="5943600" cy="2971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720" rIns="6372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0960" y="4170240"/>
            <a:ext cx="2175120" cy="1209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8840" y="4449240"/>
            <a:ext cx="151128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nerer Ca</a:t>
            </a:r>
            <a:r>
              <a:rPr b="1" lang="en-AU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+</a:t>
            </a:r>
            <a:r>
              <a:rPr b="1" lang="en-A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pe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409640" y="4272120"/>
            <a:ext cx="428760" cy="100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94280" y="2666880"/>
            <a:ext cx="1081080" cy="900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501440" y="4099680"/>
            <a:ext cx="317520" cy="1332000"/>
          </a:xfrm>
          <a:prstGeom prst="upArrow">
            <a:avLst>
              <a:gd name="adj1" fmla="val 50000"/>
              <a:gd name="adj2" fmla="val 1048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5520" y="2900520"/>
            <a:ext cx="785880" cy="66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5280" y="3952080"/>
            <a:ext cx="625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407200">
            <a:off x="5748480" y="5011200"/>
            <a:ext cx="1182600" cy="10256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09920"/>
            <a:ext cx="293760" cy="1093680"/>
          </a:xfrm>
          <a:custGeom>
            <a:avLst/>
            <a:gdLst>
              <a:gd name="textAreaLeft" fmla="*/ 39240 w 293760"/>
              <a:gd name="textAreaRight" fmla="*/ 254520 w 293760"/>
              <a:gd name="textAreaTop" fmla="*/ 191160 h 1093680"/>
              <a:gd name="textAreaBottom" fmla="*/ 79308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466400">
            <a:off x="3959280" y="3393720"/>
            <a:ext cx="306360" cy="389160"/>
          </a:xfrm>
          <a:custGeom>
            <a:avLst/>
            <a:gdLst>
              <a:gd name="textAreaLeft" fmla="*/ 41040 w 306360"/>
              <a:gd name="textAreaRight" fmla="*/ 265320 w 306360"/>
              <a:gd name="textAreaTop" fmla="*/ 68040 h 389160"/>
              <a:gd name="textAreaBottom" fmla="*/ 282240 h 3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6877200">
            <a:off x="6360120" y="2729520"/>
            <a:ext cx="412920" cy="611280"/>
          </a:xfrm>
          <a:prstGeom prst="flowChartDe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3019320"/>
            <a:ext cx="1638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979400">
            <a:off x="6480000" y="3792240"/>
            <a:ext cx="349560" cy="1047600"/>
          </a:xfrm>
          <a:custGeom>
            <a:avLst/>
            <a:gdLst>
              <a:gd name="textAreaLeft" fmla="*/ 46800 w 349560"/>
              <a:gd name="textAreaRight" fmla="*/ 302760 w 349560"/>
              <a:gd name="textAreaTop" fmla="*/ 183600 h 1047600"/>
              <a:gd name="textAreaBottom" fmla="*/ 759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133400">
            <a:off x="5572800" y="5209200"/>
            <a:ext cx="1625760" cy="773280"/>
          </a:xfrm>
          <a:prstGeom prst="leftArrow">
            <a:avLst>
              <a:gd name="adj1" fmla="val 50000"/>
              <a:gd name="adj2" fmla="val 5256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6840" y="2933640"/>
            <a:ext cx="1638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83160" y="2933640"/>
            <a:ext cx="1620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80000" y="2762280"/>
            <a:ext cx="1638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70680" y="2676600"/>
            <a:ext cx="16344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3760" y="2505240"/>
            <a:ext cx="1620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4800" y="3448080"/>
            <a:ext cx="544680" cy="50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51480" y="3549600"/>
            <a:ext cx="16200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51480" y="3683160"/>
            <a:ext cx="16200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04120" y="3645000"/>
            <a:ext cx="16344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0000" y="3241800"/>
            <a:ext cx="16200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634000" y="3097080"/>
            <a:ext cx="541440" cy="501480"/>
            <a:chOff x="5634000" y="3097080"/>
            <a:chExt cx="541440" cy="501480"/>
          </a:xfrm>
        </p:grpSpPr>
        <p:sp>
          <p:nvSpPr>
            <p:cNvPr id="133" name=""/>
            <p:cNvSpPr/>
            <p:nvPr/>
          </p:nvSpPr>
          <p:spPr>
            <a:xfrm>
              <a:off x="5634000" y="3097080"/>
              <a:ext cx="54144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02200" y="3346200"/>
              <a:ext cx="16344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72240" y="3301920"/>
              <a:ext cx="161640" cy="14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145280" y="52578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08320" y="2135520"/>
            <a:ext cx="1681920" cy="1398600"/>
            <a:chOff x="2308320" y="2135520"/>
            <a:chExt cx="1681920" cy="1398600"/>
          </a:xfrm>
        </p:grpSpPr>
        <p:sp>
          <p:nvSpPr>
            <p:cNvPr id="138" name=""/>
            <p:cNvSpPr/>
            <p:nvPr/>
          </p:nvSpPr>
          <p:spPr>
            <a:xfrm rot="19851000">
              <a:off x="2565000" y="2216160"/>
              <a:ext cx="64944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879200">
              <a:off x="3069720" y="2230560"/>
              <a:ext cx="64944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6466400">
            <a:off x="3224880" y="3311640"/>
            <a:ext cx="307800" cy="392400"/>
          </a:xfrm>
          <a:custGeom>
            <a:avLst/>
            <a:gdLst>
              <a:gd name="textAreaLeft" fmla="*/ 41040 w 307800"/>
              <a:gd name="textAreaRight" fmla="*/ 266760 w 307800"/>
              <a:gd name="textAreaTop" fmla="*/ 68400 h 392400"/>
              <a:gd name="textAreaBottom" fmla="*/ 284400 h 3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6960" y="1630440"/>
            <a:ext cx="720720" cy="14270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791600">
            <a:off x="2449440" y="1199880"/>
            <a:ext cx="68112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13200">
            <a:off x="3161880" y="1207800"/>
            <a:ext cx="658800" cy="110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81280" y="1233360"/>
            <a:ext cx="934920" cy="65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370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e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1280" y="22334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nti-kör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50000" y="3168720"/>
            <a:ext cx="16344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5960" y="4002840"/>
            <a:ext cx="1312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lz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6680" y="2425680"/>
            <a:ext cx="16344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94560" y="2668680"/>
            <a:ext cx="16344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37280" y="19447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ista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0:24:52Z</dcterms:created>
  <dc:creator> </dc:creator>
  <dc:description/>
  <dc:language>en-US</dc:language>
  <cp:lastModifiedBy> </cp:lastModifiedBy>
  <dcterms:modified xsi:type="dcterms:W3CDTF">2004-04-14T15:09:51Z</dcterms:modified>
  <cp:revision>89</cp:revision>
  <dc:subject/>
  <dc:title>Folie 1</dc:title>
</cp:coreProperties>
</file>